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D86-5BD6-46F2-9319-5BA26E43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C7E-8ABD-4D37-A719-729CE82E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927-C5A0-48CE-BF9B-2AC58807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8B2-7D24-45BC-AE63-2651BDED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827E3-EFD2-4968-9F09-DA9CCA4F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38FD4-1E66-4EFB-9585-DEF2B130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862E7-E757-456D-91B1-180AE27C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A2A5B-AB92-4CA4-AB5E-461132A9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AE571-8BF1-4CFD-95AC-036B2974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217CB-4DA4-415C-B645-8C05186A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DD547-AB0A-406A-9DCB-E25CB118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EA9-39BB-4E01-867C-8AAFA378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73DC1-21DA-4CE3-A02F-51EFCD66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A703F-C0FA-4CEF-AA6C-8CDA207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7C508-209E-428F-866A-DE925610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6196C-BE16-42E5-B9EB-FE3C8D2E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39AF4-AF53-4C32-A1B1-673E2C95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3D7-4B6C-4DBE-8E14-EBBDF861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20A-4BEF-4052-AF07-27EB800E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2D9-9606-4E1C-A600-518F4E18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07F-38C1-4557-8900-064660BE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6A1-631C-4ED7-A8B8-2C9446E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148-CC51-4057-A8E0-43034323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6B9-072C-47C7-8A8A-E17BA3F1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3ED1-FC97-4CDB-94E4-2D0DA664B9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0406-50F3-41A7-A6EC-4A3806CE2E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66680" y="4952880"/>
            <a:ext cx="74678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sapeake Bay Executive Council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12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unt Vernon, Virgi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ff Corbin, Virginia Assistant Secretary of Natura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Roll It All Up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New Restoration End D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date by which all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ction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required to achieve the jurisdiction-specific and basinwide cap load allocations have been full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mplemented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n the groun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ovember 2008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cutive Council Me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or Kaine committed the partnership, at the May 2009 EC meeting,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opting a set of 2-year milest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ing a new Bay cleanup deadline (aka Restoration End Da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No Later Than” 2025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lestone Next Ste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ack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use partnership’s existing ag/urban BMP and wastewater tracking system (updated every Januar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port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progress updated annually through the Bay Barometer (published every Marc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ap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change partners’ implementation approaches based on new information through annual adaptive management cycle (annuall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an B’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continue development of contingencies to close gaps/ address shortfalls (ongo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December 200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retary Preston Bryant established and charged an Action Team, by the April 2009 PSC meeting,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ree on guidelines for jurisdictional development of 2-year milest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jurisdiction-specific 2-year milest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uss options for adopting contingencies upon failure to meet milest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mmend a new Bay cleanup dead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ka Restoration End Da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hese are 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Water Quality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Restoration Mileston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lestones Guiding Princi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 milestones for each jurisdiction will likely vary considerably with respect to proposed specific actions, it is critical that the overall combined milestones product 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ist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prehens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lestones Guideli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ill focus strictly on Ba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er quality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restoration go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risdiction-specific milestone outcomes can be rolled up into a single, basin-wide summ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lestone outcomes include: pounds reduced , acres implemented, adoption of new regulations, legislation, poli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count for implementation action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ll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part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lestone Attribu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rst 2-year milestones will be from mid-2009 through end of 20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firming we intend to develop milestone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which ar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‘stretch goals but still attainable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ccelerat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past rates of implementatio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lestones could includ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ommitment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to seek new regulations, enactment of new legislation/polic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ranslate or relate actions and resources to Bay water quality endpoi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easurable, trackable, reportable and related to the end goal (cap load allocati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sistency across the 7 jurisdi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5639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76520" y="228600"/>
            <a:ext cx="5333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23:50:32Z</dcterms:created>
  <dc:creator>jcorbin</dc:creator>
  <dc:description/>
  <dc:language>en-US</dc:language>
  <cp:lastModifiedBy>jcorbin</cp:lastModifiedBy>
  <dcterms:modified xsi:type="dcterms:W3CDTF">2009-05-10T22:17:33Z</dcterms:modified>
  <cp:revision>13</cp:revision>
  <dc:subject/>
  <dc:title>Slide 1</dc:title>
</cp:coreProperties>
</file>