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D8D-813D-4B72-B8CC-FDF49658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F11-CA18-4CFA-B7F4-B2C4BE26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0284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D57-9FCE-4E7D-9EAD-06CD8380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824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068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824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068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083-F20F-4C27-842C-49C31FE1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0DD3-7BA2-4CD7-B063-CC0BA5F4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7CE5-4043-43B7-9D63-89844CE9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8B7E-787A-4069-9AE7-1A8D3DD5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49D9-ACF1-4409-BD5C-DE9D2ABF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3EA8-6E77-4824-83B1-FD37CB1E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E66A-B5A1-4AE0-A301-95BF83A0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6F49-BDD6-4962-83BA-DC14E00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80A-8F77-45A4-A392-C38A3590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0284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B8E9-83D9-4CA7-BE0D-34980A81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67BC-B783-46EE-BDBC-8BDC59D6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D600-A247-41D4-A88F-C41CC470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0284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10C6-267F-475A-8D6E-37629EF3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824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5068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824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5068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A24E-208E-4EFC-9318-D64D4A91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6CC-EFE5-4F30-B8DB-A690E2F3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EFC-C433-4AD5-BD5E-14777D04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9FD-33D3-471C-B768-DE7EC837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CC2-1B8B-4259-AE80-E3EDBCB5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F7D-0969-4B9C-8355-973A446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0284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961-8802-4ECB-8236-3FC73993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BD0-75CD-4609-A19B-3730B32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DEF2-6F9F-4A49-AD74-BE9C1E95818D}" type="slidenum"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3247-94F5-45C8-9CB0-3D2C039915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4a4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4a4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4a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Garamond"/>
              </a:rPr>
              <a:t>Fitting the pieces together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44956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ob Koroncai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U.S. EPA Region 3 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ater Protection Division</a:t>
            </a:r>
            <a:endParaRPr b="0" lang="en-US" sz="20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27672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 12, 2009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ecutive Council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676520" y="15238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553080" y="38098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181480" y="15238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 rot="19175400">
            <a:off x="0" y="38095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944200">
            <a:off x="467280" y="1025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TM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09000">
            <a:off x="2295720" y="229536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2-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milest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934000">
            <a:off x="191880" y="4495680"/>
            <a:ext cx="197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Implemen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P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27760" y="301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261600">
            <a:off x="5715360" y="25945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End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635600">
            <a:off x="6818040" y="479088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conting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 flipH="1" rot="1505400">
            <a:off x="6934320" y="4568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1214200">
            <a:off x="6860520" y="139356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consequ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907D-D817-4C0F-8AE6-F7E3440AAF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What’s the Scope of the Bay TMDL?</a:t>
            </a:r>
            <a:endParaRPr b="1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Entire watershed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Nutrients, sediments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All sources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Oxygen, clarity/Bay  grasses, algae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All impaired tidal water segments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40280" y="1523880"/>
            <a:ext cx="4203720" cy="44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E64-9B25-45C9-857F-ADFA1F150F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Implementation/Accountability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1" marL="289440" indent="-1112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Reasonable</a:t>
            </a:r>
            <a:r>
              <a:rPr b="1" lang="en-US" sz="2800" spc="-1" strike="noStrike">
                <a:solidFill>
                  <a:srgbClr val="644a4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44a40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644a40"/>
              </a:solidFill>
              <a:latin typeface="Arial"/>
            </a:endParaRPr>
          </a:p>
          <a:p>
            <a:pPr lvl="2" marL="445680" indent="-8892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40"/>
                </a:solidFill>
                <a:latin typeface="Arial"/>
              </a:rPr>
              <a:t>Assure that NPS controls in TMDL will be implemented</a:t>
            </a:r>
            <a:endParaRPr b="0" lang="en-US" sz="2400" spc="-1" strike="noStrike">
              <a:solidFill>
                <a:srgbClr val="644a40"/>
              </a:solidFill>
              <a:latin typeface="Arial"/>
            </a:endParaRPr>
          </a:p>
          <a:p>
            <a:pPr lvl="2" marL="445680" indent="-8892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40"/>
                </a:solidFill>
                <a:latin typeface="Arial"/>
              </a:rPr>
              <a:t>Basis of Bay TMDL Implementation Framework</a:t>
            </a:r>
            <a:endParaRPr b="0" lang="en-US" sz="24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360" y="228600"/>
            <a:ext cx="661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What makes the Chesapeake Ba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TMDL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FBC-635D-43DC-9384-A22301EF25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85760"/>
            <a:ext cx="8382240" cy="838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608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2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The Bay TMDL Implementation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66688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743200" y="4876920"/>
            <a:ext cx="457200" cy="2728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4876920"/>
            <a:ext cx="0" cy="7300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867280" y="2863800"/>
            <a:ext cx="533520" cy="4888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867280" y="4876920"/>
            <a:ext cx="533520" cy="2728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863800"/>
            <a:ext cx="457200" cy="4888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00400" y="5486400"/>
            <a:ext cx="2841480" cy="1263600"/>
            <a:chOff x="3200400" y="5486400"/>
            <a:chExt cx="2841480" cy="1263600"/>
          </a:xfrm>
        </p:grpSpPr>
        <p:sp>
          <p:nvSpPr>
            <p:cNvPr id="132" name=""/>
            <p:cNvSpPr/>
            <p:nvPr/>
          </p:nvSpPr>
          <p:spPr>
            <a:xfrm>
              <a:off x="3200400" y="5486400"/>
              <a:ext cx="2819520" cy="126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dentify Progr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ap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tween need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ols and existing program capacit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181480" y="5562720"/>
              <a:ext cx="86040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228600" y="4419720"/>
            <a:ext cx="2514600" cy="1562040"/>
            <a:chOff x="228600" y="4419720"/>
            <a:chExt cx="2514600" cy="1562040"/>
          </a:xfrm>
        </p:grpSpPr>
        <p:sp>
          <p:nvSpPr>
            <p:cNvPr id="135" name=""/>
            <p:cNvSpPr/>
            <p:nvPr/>
          </p:nvSpPr>
          <p:spPr>
            <a:xfrm>
              <a:off x="228600" y="4419720"/>
              <a:ext cx="2514600" cy="15620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 Bienn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ilest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 closing identifi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gram gaps.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ingencies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y state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f milestones fall sh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1905120" y="4471920"/>
              <a:ext cx="761760" cy="74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3200400" y="1143000"/>
            <a:ext cx="2743200" cy="1568520"/>
            <a:chOff x="3200400" y="1143000"/>
            <a:chExt cx="2743200" cy="1568520"/>
          </a:xfrm>
        </p:grpSpPr>
        <p:sp>
          <p:nvSpPr>
            <p:cNvPr id="138" name=""/>
            <p:cNvSpPr/>
            <p:nvPr/>
          </p:nvSpPr>
          <p:spPr>
            <a:xfrm>
              <a:off x="3200400" y="1143000"/>
              <a:ext cx="2743200" cy="1568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lo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sequenc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y EPA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f appropriate progress is not being m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029200" y="1143000"/>
              <a:ext cx="90648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3198240" y="3352680"/>
            <a:ext cx="2721600" cy="1556280"/>
            <a:chOff x="3198240" y="3352680"/>
            <a:chExt cx="2721600" cy="1556280"/>
          </a:xfrm>
        </p:grpSpPr>
        <p:sp>
          <p:nvSpPr>
            <p:cNvPr id="141" name=""/>
            <p:cNvSpPr/>
            <p:nvPr/>
          </p:nvSpPr>
          <p:spPr>
            <a:xfrm>
              <a:off x="3198240" y="3352680"/>
              <a:ext cx="2714760" cy="1556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Establis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Chesapea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Bay TMDL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Set total nutrient and 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sediment cap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Wasteload and load allo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5289840" y="3396960"/>
              <a:ext cx="630000" cy="102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6400800" y="2057400"/>
            <a:ext cx="2514600" cy="1752480"/>
            <a:chOff x="6400800" y="2057400"/>
            <a:chExt cx="2514600" cy="1752480"/>
          </a:xfrm>
        </p:grpSpPr>
        <p:sp>
          <p:nvSpPr>
            <p:cNvPr id="144" name=""/>
            <p:cNvSpPr/>
            <p:nvPr/>
          </p:nvSpPr>
          <p:spPr>
            <a:xfrm>
              <a:off x="6400800" y="2057400"/>
              <a:ext cx="2514600" cy="1752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vis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mplementa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fying th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utrient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diment controls needed to meet the Basin cap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5"/>
            <a:stretch/>
          </p:blipFill>
          <p:spPr>
            <a:xfrm>
              <a:off x="8180280" y="2133720"/>
              <a:ext cx="72576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6400800" y="4495680"/>
            <a:ext cx="2514600" cy="1555920"/>
            <a:chOff x="6400800" y="4495680"/>
            <a:chExt cx="2514600" cy="1555920"/>
          </a:xfrm>
        </p:grpSpPr>
        <p:sp>
          <p:nvSpPr>
            <p:cNvPr id="147" name=""/>
            <p:cNvSpPr/>
            <p:nvPr/>
          </p:nvSpPr>
          <p:spPr>
            <a:xfrm>
              <a:off x="6400800" y="4495680"/>
              <a:ext cx="2514600" cy="1555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aluat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gra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acit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programmatic, funding, technical) to fully implement State Implementation Pla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8001000" y="4572000"/>
              <a:ext cx="914400" cy="79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228600" y="2292480"/>
            <a:ext cx="2514600" cy="1218960"/>
            <a:chOff x="228600" y="2292480"/>
            <a:chExt cx="2514600" cy="1218960"/>
          </a:xfrm>
        </p:grpSpPr>
        <p:sp>
          <p:nvSpPr>
            <p:cNvPr id="150" name=""/>
            <p:cNvSpPr/>
            <p:nvPr/>
          </p:nvSpPr>
          <p:spPr>
            <a:xfrm>
              <a:off x="228600" y="2292480"/>
              <a:ext cx="2514600" cy="12189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nito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ffectiven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asses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ation a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7"/>
            <a:stretch/>
          </p:blipFill>
          <p:spPr>
            <a:xfrm>
              <a:off x="1930320" y="2298600"/>
              <a:ext cx="811440" cy="94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150B-E616-4683-8E41-DDBC323BA943}" type="slidenum">
              <a:t>4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’s on the road ahead?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State Implementation Plan Development (May 2009 – May 2010)</a:t>
            </a:r>
            <a:endParaRPr b="0" lang="en-US" sz="30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TMDL 101 public meetings (June – Sept. 2009) </a:t>
            </a:r>
            <a:endParaRPr b="0" lang="en-US" sz="30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Draft TMDL Public Notice/Public Meetings (June – Sept. 2010)</a:t>
            </a:r>
            <a:endParaRPr b="0" lang="en-US" sz="3000" spc="-1" strike="noStrike">
              <a:solidFill>
                <a:srgbClr val="644a4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Final TMDL Established (December 2010)</a:t>
            </a:r>
            <a:endParaRPr b="0" lang="en-US" sz="3000" spc="-1" strike="noStrike">
              <a:solidFill>
                <a:srgbClr val="644a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D2D-27B2-4931-89E9-F08728A702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5:07:09Z</dcterms:created>
  <dc:creator>JSincock</dc:creator>
  <dc:description/>
  <dc:language>en-US</dc:language>
  <cp:lastModifiedBy>carin bisland</cp:lastModifiedBy>
  <dcterms:modified xsi:type="dcterms:W3CDTF">2009-05-08T12:10:31Z</dcterms:modified>
  <cp:revision>83</cp:revision>
  <dc:subject/>
  <dc:title>Slide 1</dc:title>
</cp:coreProperties>
</file>