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C9C2EE-6F8D-40C7-ADE1-2F4DCB70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5880F7-4B3F-40E9-BFB6-4FADAB3C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11C85C-DAE9-4FC5-AF12-15327240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05C715-39CE-4A2A-9A98-557D8631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6540A5-7E3B-4498-88A5-CB575B79E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3EB9B3-AEA8-491C-8815-A3CB1134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48CD2F-3489-4A9B-A7E8-1BD516231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5A1D82-7F29-4FB0-AE32-F4FF12C52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13990C-394E-4D3B-A965-1A5A2FFB3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A99-6BAA-4FA5-AA92-D158AF72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433-0097-4667-A930-1D205CF7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1A3-9F24-4A1B-8E4E-96B93CD4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C7C-E6EA-4FC8-AC35-83263F11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B9F-F117-4378-91DA-7C3A0C7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15B-1EB1-43E8-ADA6-7EF0BC95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34F-BF5B-4FCF-9BB2-B59FA130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959-64C9-469B-92D0-845C75BA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465-6C6D-41EB-83ED-74B3FC6F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846-8A77-477A-A8DA-29C6AEB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412-0C42-420D-99BF-1223C0D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4C4-099E-4DA3-B6F3-42A6F0D2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66BF-0814-435A-B4A7-7565FFF4C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SAPEAKE BAY PROGRAM EXECUTIVE COUNCIL GUNSTON HALL ▪ LORTON, VA ▪ JULY 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CC12-2BEB-46C3-B0FB-C72298CE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7"/>
          <p:cNvGraphicFramePr/>
          <p:nvPr/>
        </p:nvGraphicFramePr>
        <p:xfrm>
          <a:off x="1677960" y="3809880"/>
          <a:ext cx="289404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3809880"/>
                    <a:ext cx="28940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1" descr="Xchange logo"/>
          <p:cNvPicPr/>
          <p:nvPr/>
        </p:nvPicPr>
        <p:blipFill>
          <a:blip r:embed="rId3"/>
          <a:stretch/>
        </p:blipFill>
        <p:spPr>
          <a:xfrm>
            <a:off x="4708440" y="3962520"/>
            <a:ext cx="2835360" cy="2819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163980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Strategies To M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Infrastructure Finance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ristopher D. Pomer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96E8-E0FB-40BE-AC15-8DB461E3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3-Part Point Source Strategy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Virgi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d Financial Commi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al grant funding for Wastewater Plant upgr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ve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Watershed General Permit for all discha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-Based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 permittee-led trading with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00A-DB54-4F90-BFCA-AEEAC86AA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. Shared Financial Commitment: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ater Quality Improvement Gr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of the Commonwealth of Virgi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 Grants Program through State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sh (% of budget surplus, if any) or debt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imburse Localities for set % of construc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of Locality (WWTP Own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, design and construct facility up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e facility to meet nutrient performanc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e local share (~ 50% to 75% of total project) usually  with 20 to 30-year deb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DB4E-0FA7-44C2-9AE8-192E5BFA8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hared Financial Commitment: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vestment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liable State-Local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-year track record (1998-201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Contribution of $744 Million through FY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of $47 million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Y13 Budget adds an above-average $88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lity Contributions (es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grants leveraged ~ $1.5 billion in local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$2 billion (total) inve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5D07-3DA5-44AE-89D9-D94B1E234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2. Innovative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ershed General Permit (WG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permit covers all wastewater treatment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es on “significant” facilitie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GP Set a Common Schedule for All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effective date of Jan. 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compliance deadline of Jan. 1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stable, predictable regulatory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GP Authorized Use of Trading for 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601-13F4-4131-BD7E-2323ECCE9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3. Market-Based Flexibility: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oint Source Nutrient 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icipant-Run Trad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hange Assn &amp; Members create 5-year trad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-operated Exchange facilitates most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Q has oversight authority, but no direct role in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standing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5 Owners, 110 Facilities, and 100%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46,000 N and 77,000 P credits traded and used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credit value of $1.9 million fo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6CC7-8985-484D-8998-2121B439C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akeholder Perspective on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Keys to This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iable financial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ingness to change old regulator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ictable rules that focus on the bi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priate flexibility for implementation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-term stable regulatory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OR MORE IN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opher D. Pomero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@AquaLaw.c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AquaLaw.c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04) 716-9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02D9-E310-4689-A77F-9F66919A9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17"/>
          <p:cNvGraphicFramePr/>
          <p:nvPr/>
        </p:nvGraphicFramePr>
        <p:xfrm>
          <a:off x="1677960" y="3124080"/>
          <a:ext cx="289404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3124080"/>
                    <a:ext cx="28940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1" descr="Xchange logo"/>
          <p:cNvPicPr/>
          <p:nvPr/>
        </p:nvPicPr>
        <p:blipFill>
          <a:blip r:embed="rId3"/>
          <a:stretch/>
        </p:blipFill>
        <p:spPr>
          <a:xfrm>
            <a:off x="4708440" y="3200400"/>
            <a:ext cx="2835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8:43:43Z</dcterms:created>
  <dc:creator>Chris Pomeroy</dc:creator>
  <dc:description/>
  <dc:language>en-US</dc:language>
  <cp:lastModifiedBy>j</cp:lastModifiedBy>
  <dcterms:modified xsi:type="dcterms:W3CDTF">2012-07-09T02:06:35Z</dcterms:modified>
  <cp:revision>605</cp:revision>
  <dc:subject/>
  <dc:title>THE WATER AND WASTE OPERATORS ASSOCIATION</dc:title>
</cp:coreProperties>
</file>