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12193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341" name="PlaceHolder 1"/>
          <p:cNvSpPr>
            <a:spLocks noGrp="1"/>
          </p:cNvSpPr>
          <p:nvPr>
            <p:ph type="hdr"/>
          </p:nvPr>
        </p:nvSpPr>
        <p:spPr>
          <a:xfrm>
            <a:off x="0" y="0"/>
            <a:ext cx="2982960" cy="466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97360" y="0"/>
            <a:ext cx="2982960" cy="4665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3"/>
          <p:cNvSpPr>
            <a:spLocks noGrp="1"/>
          </p:cNvSpPr>
          <p:nvPr>
            <p:ph type="sldImg"/>
          </p:nvPr>
        </p:nvSpPr>
        <p:spPr>
          <a:xfrm>
            <a:off x="654120" y="1162080"/>
            <a:ext cx="5573520" cy="31370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move the slide</a:t>
            </a:r>
            <a:endParaRPr b="0" lang="en-US" sz="3400" spc="-1" strike="noStrike">
              <a:solidFill>
                <a:srgbClr val="ffffff"/>
              </a:solidFill>
              <a:latin typeface="Cambria"/>
            </a:endParaRPr>
          </a:p>
        </p:txBody>
      </p:sp>
      <p:sp>
        <p:nvSpPr>
          <p:cNvPr id="344" name="PlaceHolder 4"/>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5" name="PlaceHolder 5"/>
          <p:cNvSpPr>
            <a:spLocks noGrp="1"/>
          </p:cNvSpPr>
          <p:nvPr>
            <p:ph type="ftr" idx="26"/>
          </p:nvPr>
        </p:nvSpPr>
        <p:spPr>
          <a:xfrm>
            <a:off x="0" y="8829720"/>
            <a:ext cx="2982960" cy="4665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97360" y="8829720"/>
            <a:ext cx="2982960" cy="4665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4806-6B8D-4C79-ACF8-F40204C1B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54120" y="1162080"/>
            <a:ext cx="5573520" cy="3137040"/>
          </a:xfrm>
          <a:prstGeom prst="rect">
            <a:avLst/>
          </a:prstGeom>
          <a:ln w="0">
            <a:noFill/>
          </a:ln>
        </p:spPr>
      </p:sp>
      <p:sp>
        <p:nvSpPr>
          <p:cNvPr id="39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D75A-9880-4794-91DC-08E16AD27B6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54120" y="1162080"/>
            <a:ext cx="5573520" cy="3137040"/>
          </a:xfrm>
          <a:prstGeom prst="rect">
            <a:avLst/>
          </a:prstGeom>
          <a:ln w="0">
            <a:noFill/>
          </a:ln>
        </p:spPr>
      </p:sp>
      <p:sp>
        <p:nvSpPr>
          <p:cNvPr id="417"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F439-984A-4C7E-AEBF-B7349B33788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4120" y="1162080"/>
            <a:ext cx="5573520" cy="3137040"/>
          </a:xfrm>
          <a:prstGeom prst="rect">
            <a:avLst/>
          </a:prstGeom>
          <a:ln w="0">
            <a:noFill/>
          </a:ln>
        </p:spPr>
      </p:sp>
      <p:sp>
        <p:nvSpPr>
          <p:cNvPr id="42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A085-DF46-4F01-B5B0-E854D7E7BC9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54120" y="1162080"/>
            <a:ext cx="5573520" cy="3137040"/>
          </a:xfrm>
          <a:prstGeom prst="rect">
            <a:avLst/>
          </a:prstGeom>
          <a:ln w="0">
            <a:noFill/>
          </a:ln>
        </p:spPr>
      </p:sp>
      <p:sp>
        <p:nvSpPr>
          <p:cNvPr id="42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CE9E-D602-4116-A030-4D15B9E7EF8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54120" y="1162080"/>
            <a:ext cx="5573520" cy="3137040"/>
          </a:xfrm>
          <a:prstGeom prst="rect">
            <a:avLst/>
          </a:prstGeom>
          <a:ln w="0">
            <a:noFill/>
          </a:ln>
        </p:spPr>
      </p:sp>
      <p:sp>
        <p:nvSpPr>
          <p:cNvPr id="426"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D63E-AB05-4BE4-BE67-D8AA9ABF0ED8}"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54120" y="1162080"/>
            <a:ext cx="5573520" cy="3137040"/>
          </a:xfrm>
          <a:prstGeom prst="rect">
            <a:avLst/>
          </a:prstGeom>
          <a:ln w="0">
            <a:noFill/>
          </a:ln>
        </p:spPr>
      </p:sp>
      <p:sp>
        <p:nvSpPr>
          <p:cNvPr id="39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E6AA-A191-4951-A0C4-F10666614F7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54120" y="1162080"/>
            <a:ext cx="5573520" cy="3137040"/>
          </a:xfrm>
          <a:prstGeom prst="rect">
            <a:avLst/>
          </a:prstGeom>
          <a:ln w="0">
            <a:noFill/>
          </a:ln>
        </p:spPr>
      </p:sp>
      <p:sp>
        <p:nvSpPr>
          <p:cNvPr id="42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4CF9-1749-4434-92A5-AE044AF2E638}"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4120" y="1162080"/>
            <a:ext cx="5573520" cy="3137040"/>
          </a:xfrm>
          <a:prstGeom prst="rect">
            <a:avLst/>
          </a:prstGeom>
          <a:ln w="0">
            <a:noFill/>
          </a:ln>
        </p:spPr>
      </p:sp>
      <p:sp>
        <p:nvSpPr>
          <p:cNvPr id="43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EF57-95FA-43C0-8CF9-FED96E4727BF}"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54120" y="1162080"/>
            <a:ext cx="5573520" cy="3137040"/>
          </a:xfrm>
          <a:prstGeom prst="rect">
            <a:avLst/>
          </a:prstGeom>
          <a:ln w="0">
            <a:noFill/>
          </a:ln>
        </p:spPr>
      </p:sp>
      <p:sp>
        <p:nvSpPr>
          <p:cNvPr id="43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4EC0-1151-4174-805C-F6F41A1929D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54120" y="1162080"/>
            <a:ext cx="5573520" cy="3137040"/>
          </a:xfrm>
          <a:prstGeom prst="rect">
            <a:avLst/>
          </a:prstGeom>
          <a:ln w="0">
            <a:noFill/>
          </a:ln>
        </p:spPr>
      </p:sp>
      <p:sp>
        <p:nvSpPr>
          <p:cNvPr id="396" name="PlaceHolder 2"/>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ederal Budget process is an information-intensive mix of bottom-up formulation and top-down guid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Budget process NORMALLY begins a full 18 months or more before the start of the fiscal year in question – when federal agencies begin their internal budget plann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ing the Fall, agency requests are completed and submitted to OMB for review</a:t>
            </a:r>
            <a:r>
              <a:rPr b="0" lang="en-US" sz="1200" spc="-1" strike="noStrike">
                <a:solidFill>
                  <a:srgbClr val="000000"/>
                </a:solidFill>
                <a:latin typeface="Calibri"/>
              </a:rPr>
              <a:t>.  They review the requests, decide what the Administration will and will not support, and notifies agencies of these decisions through “passbacks,” usually issued in late Novemb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because of elections, passbacks occurred in </a:t>
            </a:r>
            <a:r>
              <a:rPr b="0" lang="en-US" sz="1200" spc="-1" strike="noStrike">
                <a:solidFill>
                  <a:srgbClr val="ff0000"/>
                </a:solidFill>
                <a:latin typeface="Calibri"/>
              </a:rPr>
              <a:t>late January</a:t>
            </a:r>
            <a:r>
              <a:rPr b="0" lang="en-US" sz="1200" spc="-1" strike="noStrike">
                <a:solidFill>
                  <a:srgbClr val="000000"/>
                </a:solidFill>
                <a:latin typeface="Calibri"/>
              </a:rPr>
              <a:t>.  Still the White House only provided programmatic language but they did not include the funding leve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can then either accept OMB’s decisions or, more often, appe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B and the agencies must hash out their differences in time for the President’s budget submission to Congress – required by the first Monday in February.  Typically it’s late during a new president’s firs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year the “Skinny Budget” or Budget Blueprint was submitted to Congress on March 16. The full budget is not anticipated until May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most public portion of the cycle is the Congressional process, typically beginning in the spring before the fiscal year starts.</a:t>
            </a:r>
            <a:endParaRPr b="0" lang="en-US" sz="1200" spc="-1" strike="noStrike">
              <a:solidFill>
                <a:srgbClr val="000000"/>
              </a:solidFill>
              <a:latin typeface="Calibri"/>
            </a:endParaRPr>
          </a:p>
        </p:txBody>
      </p:sp>
      <p:sp>
        <p:nvSpPr>
          <p:cNvPr id="39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E3C4-59E5-4024-9F47-94B32F0E201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54120" y="1162080"/>
            <a:ext cx="5573520" cy="3137040"/>
          </a:xfrm>
          <a:prstGeom prst="rect">
            <a:avLst/>
          </a:prstGeom>
          <a:ln w="0">
            <a:noFill/>
          </a:ln>
        </p:spPr>
      </p:sp>
      <p:sp>
        <p:nvSpPr>
          <p:cNvPr id="39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DD56-D0A3-4575-A83C-708C0EB8CF0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54120" y="1162080"/>
            <a:ext cx="5573520" cy="3137040"/>
          </a:xfrm>
          <a:prstGeom prst="rect">
            <a:avLst/>
          </a:prstGeom>
          <a:ln w="0">
            <a:noFill/>
          </a:ln>
        </p:spPr>
      </p:sp>
      <p:sp>
        <p:nvSpPr>
          <p:cNvPr id="40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BF08-332A-4ED0-8FCA-CA60CE73FEB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54120" y="1162080"/>
            <a:ext cx="5573520" cy="3137040"/>
          </a:xfrm>
          <a:prstGeom prst="rect">
            <a:avLst/>
          </a:prstGeom>
          <a:ln w="0">
            <a:noFill/>
          </a:ln>
        </p:spPr>
      </p:sp>
      <p:sp>
        <p:nvSpPr>
          <p:cNvPr id="40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565-3986-43A8-B9E7-ECEAD8EA28F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4120" y="1162080"/>
            <a:ext cx="5573520" cy="3137040"/>
          </a:xfrm>
          <a:prstGeom prst="rect">
            <a:avLst/>
          </a:prstGeom>
          <a:ln w="0">
            <a:noFill/>
          </a:ln>
        </p:spPr>
      </p:sp>
      <p:sp>
        <p:nvSpPr>
          <p:cNvPr id="408"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DFCA-29C2-4255-851B-7CAB6D6F982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54120" y="1162080"/>
            <a:ext cx="5573520" cy="3137040"/>
          </a:xfrm>
          <a:prstGeom prst="rect">
            <a:avLst/>
          </a:prstGeom>
          <a:ln w="0">
            <a:noFill/>
          </a:ln>
        </p:spPr>
      </p:sp>
      <p:sp>
        <p:nvSpPr>
          <p:cNvPr id="411"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24AA-E427-45A9-9D9F-1CFDFC7040D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54120" y="1162080"/>
            <a:ext cx="5573520" cy="3137040"/>
          </a:xfrm>
          <a:prstGeom prst="rect">
            <a:avLst/>
          </a:prstGeom>
          <a:ln w="0">
            <a:noFill/>
          </a:ln>
        </p:spPr>
      </p:sp>
      <p:sp>
        <p:nvSpPr>
          <p:cNvPr id="414"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04F2-8C47-4809-B27F-83B54E45027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68036-E9CB-4167-84B6-85DEE47A9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1801-75AE-460F-98E4-E6237617D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AB7C0-C444-48DB-AFFB-651243997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60ABD-D0DD-4E41-A8C4-6AF846723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392EF-BCDF-4451-A3D6-1CAB3ACCE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49"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0AAED-739B-439F-ACC5-2535D7872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1"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D016C-55C1-4E00-A49C-24B36BACD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83A9D-8821-4C2B-97EF-F061BF35B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21937-F6C8-4E7C-A78C-B8421E350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A2E60-F51C-4C62-8DA0-10F7F890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15B9E-D0BB-42B6-BE5B-AFA4E03A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1E41C-FF02-4F43-836F-82D2D236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2"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070DE-353E-437F-BB56-BC56C8EA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2565D-65CA-4030-84B9-5A0828C01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0"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48269-AA03-4AF6-A296-9C818DA38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6"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930D3-DBCE-4269-A05A-A38938973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8"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1"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2"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8F1A2-F9E6-448B-AA5D-3DB0A28DB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E77C0-8EA4-4DAE-86FF-3C3A664DE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ADA48-DE1D-4464-A1F0-A279018A4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C90E6-F20C-4970-811C-20E079CBE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1A426-4889-4838-8C8E-C824B1E5B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1F42C-B897-41D3-B579-C1610C534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CBCAC-A830-4D79-A035-B9162538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0CC84-EA61-4F78-B89E-3032791F2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69287-1319-487C-A363-88FE08161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D0DE8-F8FF-4D9B-A8DC-01D2B8AE0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D46F8-70B4-41DE-8C8D-4C3860C88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BD42B-DEFA-4EB1-BD44-0C2BCDCDF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2E81A-37D5-467C-B74E-744CC8F744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2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FD913-A2BF-4767-8FC1-4028E18C5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E0D72-5E6B-4E02-981D-7234F8D254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4"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0FA1E-74A0-48B7-A0A2-8DF229548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6"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80922-25CE-4F80-8677-9E0F87EE3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962F-0330-4157-BD12-A900E861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96E89-AB47-4D78-8DFA-8395F8D64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8A9BF-3822-47D4-9473-4EEE4D482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C7A11-5B36-49FB-B572-B7BEA4382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C9EBA-F4BC-45A7-9A10-B6B5F29BC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7"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9"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A97F7-6157-4C79-8179-57A196899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3"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0A220-A588-4C88-B488-FBCB3B773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5"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6"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7405F-103B-4035-A224-F861F6E4D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1"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3E487-34B8-46AA-8D85-DC0E362B2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3"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4"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8"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93EE7-97C0-4BBC-AA1C-66F6F190E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6F9961-3CED-452D-B28C-22044E6CE9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3B9B-2C94-4DCB-9C74-07DD92D8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8A21D-4838-4B33-AB80-BBE6DACEF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5E560-D0D2-45D8-9C3F-1B157CDB5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542BA-2762-4BA4-841A-D1B663852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89D67-EF66-4C0D-B9C0-077E3CDA7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03D45-7196-4ED3-B422-527925AB9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F91D1-234D-421B-A22C-ABF7E9650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15ABA-E26F-4A3A-9AE4-56E7861AC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C2DD2-6F97-4986-B1CE-6A70FAB91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07BEE-61CE-4336-B635-37133A274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ED572-2034-4322-A4C6-BADE127A1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2396-27DB-484E-871E-D593C59D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6DE25A-E652-4D8B-97C1-22CD40D5CF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1E92C1-D19C-4BE2-A776-42DF94ECB5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0"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B106D-3D82-4FA8-A6D5-D5C8C7D46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2"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B97C57-29E5-45D0-B1E1-63A8EACAE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4"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D1F5E-B177-4CCA-917A-AA9AB1131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9AE05-1C28-4DE2-BBB8-1D804F95E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AE709-00A4-49DF-BE7F-62D34C0D3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34B72-8A58-4290-89E5-03C4A288D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BE84A-B579-4BE6-9686-65DE798A7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7"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B7EF2-630A-4F74-B6FC-8DBC2CCAA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134E-555B-4133-8312-9795A0892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1"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2"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69CD2-5C8F-404E-8008-820C47FEF3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8F4A53-F99B-4276-8E31-F4F2D30417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9"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3"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4"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2FE74-A6D3-4B72-B9CE-494C6E622E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16D410-03C9-412C-A65B-11B94DD303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97805-25C4-4E61-A858-85D597202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5DD02-20BD-4366-B950-522BCFD9C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8C8B5-CDFB-4503-9806-0EE9420E1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24620-29AC-47E6-8016-A9EF71AB9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9DB97-0AF0-4B66-98FE-701E7BECE0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D5C6A-1BBB-4E12-9F32-CC2DEB99B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05AA-1310-4560-85D6-5D6F11A7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70025-AB1E-43A9-97D6-36C006FD8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B2B9E-206D-4283-AB78-08F566010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BA794-6DC8-4983-AC8D-EAE2076B1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870F2F-5A0D-46F0-B8B9-15CF799C6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9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F58ED3-6271-4DA8-8F7E-4E82B0D363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2657EB-4208-4498-93F3-E2C19593A2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5"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B3357F-62AA-4342-8396-332675A26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7"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657012-0057-4351-9364-7933681F5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9"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DE68A-1BAF-414E-8E3F-1091A0413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4ACCD-627F-42C6-B5A2-A5D3BBBBE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1297-F1F8-4A74-9028-2C8846FC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F094B9-8970-4DA2-864F-E676840AA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7D8E3-2191-4775-AACB-6FAA0C789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0"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F6439-42AF-44F8-83EE-3F877A106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2"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4"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832B3-8DE2-4819-893F-3A9B349093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6"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7"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D1CAE6-53C8-40CC-81F2-BD41D2630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2"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14612B-42AD-4991-8998-E0DD6294FC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34"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5"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6"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7"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8"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9"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D4532F-0216-441A-9891-83435C9549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PlaceHolder 1"/>
          <p:cNvSpPr>
            <a:spLocks noGrp="1"/>
          </p:cNvSpPr>
          <p:nvPr>
            <p:ph type="dt" idx="1"/>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3790-5849-426E-8AAD-17000B2D4030}"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 name="PlaceHolder 2"/>
          <p:cNvSpPr>
            <a:spLocks noGrp="1"/>
          </p:cNvSpPr>
          <p:nvPr>
            <p:ph type="ftr" idx="2"/>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 name="PlaceHolder 3"/>
          <p:cNvSpPr>
            <a:spLocks noGrp="1"/>
          </p:cNvSpPr>
          <p:nvPr>
            <p:ph type="sldNum" idx="3"/>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D1C5-6B24-4833-8AC7-180961B37821}"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5"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1"/>
          <p:cNvSpPr>
            <a:spLocks noGrp="1"/>
          </p:cNvSpPr>
          <p:nvPr>
            <p:ph type="dt" idx="4"/>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4B55-55A6-442B-944B-4F6393FD1AE0}"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44" name="PlaceHolder 2"/>
          <p:cNvSpPr>
            <a:spLocks noGrp="1"/>
          </p:cNvSpPr>
          <p:nvPr>
            <p:ph type="ftr" idx="5"/>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3"/>
          <p:cNvSpPr>
            <a:spLocks noGrp="1"/>
          </p:cNvSpPr>
          <p:nvPr>
            <p:ph type="sldNum" idx="6"/>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C9C3-AB86-4500-8B60-CE0396BA414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6"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7"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8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88" name="PlaceHolder 3"/>
          <p:cNvSpPr>
            <a:spLocks noGrp="1"/>
          </p:cNvSpPr>
          <p:nvPr>
            <p:ph type="dt" idx="7"/>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9720-818F-4110-9B95-45AFE5D34574}"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89" name="PlaceHolder 4"/>
          <p:cNvSpPr>
            <a:spLocks noGrp="1"/>
          </p:cNvSpPr>
          <p:nvPr>
            <p:ph type="ftr" idx="8"/>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5"/>
          <p:cNvSpPr>
            <a:spLocks noGrp="1"/>
          </p:cNvSpPr>
          <p:nvPr>
            <p:ph type="sldNum" idx="9"/>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2761-00BC-42AC-B021-12E8CF271083}"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29"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30" name="PlaceHolder 3"/>
          <p:cNvSpPr>
            <a:spLocks noGrp="1"/>
          </p:cNvSpPr>
          <p:nvPr>
            <p:ph type="dt" idx="10"/>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A3BC-5949-4582-B7B8-EAD49C6C3339}"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131" name="PlaceHolder 4"/>
          <p:cNvSpPr>
            <a:spLocks noGrp="1"/>
          </p:cNvSpPr>
          <p:nvPr>
            <p:ph type="ftr" idx="11"/>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2" name="PlaceHolder 5"/>
          <p:cNvSpPr>
            <a:spLocks noGrp="1"/>
          </p:cNvSpPr>
          <p:nvPr>
            <p:ph type="sldNum" idx="12"/>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6F65-BC40-4055-AB75-2F8EA35F61E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2"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73" name="PlaceHolder 3"/>
          <p:cNvSpPr>
            <a:spLocks noGrp="1"/>
          </p:cNvSpPr>
          <p:nvPr>
            <p:ph type="dt" idx="13"/>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87BD-DB72-4E12-BCF7-EA28DBC4662F}"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174" name="PlaceHolder 4"/>
          <p:cNvSpPr>
            <a:spLocks noGrp="1"/>
          </p:cNvSpPr>
          <p:nvPr>
            <p:ph type="ftr" idx="14"/>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 name="PlaceHolder 5"/>
          <p:cNvSpPr>
            <a:spLocks noGrp="1"/>
          </p:cNvSpPr>
          <p:nvPr>
            <p:ph type="sldNum" idx="15"/>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ADB7-40AA-444B-A542-59D561D11FE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15"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16" name="PlaceHolder 3"/>
          <p:cNvSpPr>
            <a:spLocks noGrp="1"/>
          </p:cNvSpPr>
          <p:nvPr>
            <p:ph type="dt" idx="16"/>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3964-0DE8-4C57-8558-72293CC31306}"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17" name="PlaceHolder 4"/>
          <p:cNvSpPr>
            <a:spLocks noGrp="1"/>
          </p:cNvSpPr>
          <p:nvPr>
            <p:ph type="ftr" idx="17"/>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PlaceHolder 5"/>
          <p:cNvSpPr>
            <a:spLocks noGrp="1"/>
          </p:cNvSpPr>
          <p:nvPr>
            <p:ph type="sldNum" idx="18"/>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310A-A81E-4AC9-B11F-3E438731896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5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58" name="PlaceHolder 3"/>
          <p:cNvSpPr>
            <a:spLocks noGrp="1"/>
          </p:cNvSpPr>
          <p:nvPr>
            <p:ph type="dt" idx="19"/>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6D2D-9D28-4BD2-8804-A2689C49D9CD}"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59" name="PlaceHolder 4"/>
          <p:cNvSpPr>
            <a:spLocks noGrp="1"/>
          </p:cNvSpPr>
          <p:nvPr>
            <p:ph type="ftr" idx="20"/>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PlaceHolder 5"/>
          <p:cNvSpPr>
            <a:spLocks noGrp="1"/>
          </p:cNvSpPr>
          <p:nvPr>
            <p:ph type="sldNum" idx="21"/>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0630-EBC2-4475-94BE-121D11E741F1}"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300"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301" name="PlaceHolder 3"/>
          <p:cNvSpPr>
            <a:spLocks noGrp="1"/>
          </p:cNvSpPr>
          <p:nvPr>
            <p:ph type="dt" idx="22"/>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7950-F12A-402A-B065-DEE590F8B191}"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302" name="PlaceHolder 4"/>
          <p:cNvSpPr>
            <a:spLocks noGrp="1"/>
          </p:cNvSpPr>
          <p:nvPr>
            <p:ph type="ftr" idx="23"/>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PlaceHolder 5"/>
          <p:cNvSpPr>
            <a:spLocks noGrp="1"/>
          </p:cNvSpPr>
          <p:nvPr>
            <p:ph type="sldNum" idx="24"/>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51C7-6058-4E49-9ED8-12BFB59B4F4D}"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www.chesapeakeprogress.com/funding" TargetMode="External"/><Relationship Id="rId2" Type="http://schemas.openxmlformats.org/officeDocument/2006/relationships/hyperlink" Target="http://www.chesapeakebay.net/about/how/funding"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997680" y="5336640"/>
            <a:ext cx="4756320" cy="13050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zens Advisory Committee</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25, 2017</a:t>
            </a:r>
            <a:endParaRPr b="0" lang="en-US" sz="2200" spc="-1" strike="noStrike">
              <a:solidFill>
                <a:srgbClr val="ffffff"/>
              </a:solidFill>
              <a:latin typeface="Calibri"/>
            </a:endParaRPr>
          </a:p>
        </p:txBody>
      </p:sp>
      <p:sp>
        <p:nvSpPr>
          <p:cNvPr id="348" name="PlaceHolder 2"/>
          <p:cNvSpPr>
            <a:spLocks noGrp="1"/>
          </p:cNvSpPr>
          <p:nvPr>
            <p:ph type="title"/>
          </p:nvPr>
        </p:nvSpPr>
        <p:spPr>
          <a:xfrm>
            <a:off x="1411200" y="3128760"/>
            <a:ext cx="9601200" cy="151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Cambria"/>
              </a:rPr>
              <a:t>Budget, Appropriations </a:t>
            </a:r>
            <a:br>
              <a:rPr sz="3600"/>
            </a:br>
            <a:r>
              <a:rPr b="1" lang="en-US" sz="3600" spc="-1" strike="noStrike">
                <a:solidFill>
                  <a:srgbClr val="000000"/>
                </a:solidFill>
                <a:latin typeface="Cambria"/>
              </a:rPr>
              <a:t>and the </a:t>
            </a:r>
            <a:br>
              <a:rPr sz="3600"/>
            </a:br>
            <a:r>
              <a:rPr b="1" lang="en-US" sz="3600" spc="-1" strike="noStrike">
                <a:solidFill>
                  <a:srgbClr val="000000"/>
                </a:solidFill>
                <a:latin typeface="Cambria"/>
              </a:rPr>
              <a:t>Chesapeake Bay Program 2017-18</a:t>
            </a:r>
            <a:br>
              <a:rPr sz="3600"/>
            </a:br>
            <a:br>
              <a:rPr sz="3600"/>
            </a:br>
            <a:r>
              <a:rPr b="0" lang="en-US" sz="3600" spc="-1" strike="noStrike">
                <a:solidFill>
                  <a:srgbClr val="000000"/>
                </a:solidFill>
                <a:latin typeface="Cambria"/>
              </a:rPr>
              <a:t>Jim Edward - CBPO Deputy Director</a:t>
            </a:r>
            <a:endParaRPr b="0" lang="en-US" sz="36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721800" y="1329840"/>
            <a:ext cx="6465960" cy="552780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partisan House letter in support of level funding (five Republicans and 12 Democrats)</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ate letter in support of CBP appropriations of $73 million for CBP, SRS, Sections 319 and 106, Land and Water Conservation Fund, NPS programs and Oyster Recovery Project.  Bi-partisan support (9 of 12 CBW Senators; at least 1 from each Bay state)</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C support and request to meet with Administrator on May 5th.</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C and LGAC letters of support!</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support: Choose Clean Water Coalition, Chesapeake Bay Foundation, etc.</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0" name="PlaceHolder 1"/>
          <p:cNvSpPr>
            <a:spLocks noGrp="1"/>
          </p:cNvSpPr>
          <p:nvPr>
            <p:ph type="title"/>
          </p:nvPr>
        </p:nvSpPr>
        <p:spPr>
          <a:xfrm>
            <a:off x="721800" y="466560"/>
            <a:ext cx="6465960" cy="617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Support for CBP Funding </a:t>
            </a:r>
            <a:endParaRPr b="0" lang="en-US" sz="3400" spc="-1" strike="noStrike">
              <a:solidFill>
                <a:srgbClr val="ffffff"/>
              </a:solidFill>
              <a:latin typeface="Cambria"/>
            </a:endParaRPr>
          </a:p>
        </p:txBody>
      </p:sp>
      <p:pic>
        <p:nvPicPr>
          <p:cNvPr id="371" name="Picture 1" descr=""/>
          <p:cNvPicPr/>
          <p:nvPr/>
        </p:nvPicPr>
        <p:blipFill>
          <a:blip r:embed="rId1"/>
          <a:srcRect l="4894" t="17162" r="63335" b="15225"/>
          <a:stretch/>
        </p:blipFill>
        <p:spPr>
          <a:xfrm>
            <a:off x="7993080" y="1084320"/>
            <a:ext cx="3657600" cy="4863960"/>
          </a:xfrm>
          <a:prstGeom prst="rect">
            <a:avLst/>
          </a:prstGeom>
          <a:ln w="9360">
            <a:solidFill>
              <a:srgbClr val="000000"/>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1341000" y="1814400"/>
            <a:ext cx="9223560" cy="4127760"/>
          </a:xfrm>
          <a:prstGeom prst="rect">
            <a:avLst/>
          </a:prstGeom>
          <a:noFill/>
          <a:ln w="0">
            <a:noFill/>
          </a:ln>
        </p:spPr>
        <p:txBody>
          <a:bodyPr anchor="t">
            <a:normAutofit fontScale="98000"/>
          </a:bodyPr>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A/CBPO provided partial funding of the CBRAP, CBIG, and Local Implementation funding for each jurisdiction at a 50% level.  (BUT, grant applications should reflect full year funding)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funding of other grants and interagency agreements as well.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PO is in the process of notifying grantees and other funding recipients of final FY2017 funding levels. </a:t>
            </a:r>
            <a:endParaRPr b="0" lang="en-US" sz="3200" spc="-1" strike="noStrike">
              <a:solidFill>
                <a:srgbClr val="ffffff"/>
              </a:solidFill>
              <a:latin typeface="Calibri"/>
            </a:endParaRPr>
          </a:p>
        </p:txBody>
      </p:sp>
      <p:sp>
        <p:nvSpPr>
          <p:cNvPr id="373" name="PlaceHolder 1"/>
          <p:cNvSpPr>
            <a:spLocks noGrp="1"/>
          </p:cNvSpPr>
          <p:nvPr>
            <p:ph type="title"/>
          </p:nvPr>
        </p:nvSpPr>
        <p:spPr>
          <a:xfrm>
            <a:off x="1055160" y="294840"/>
            <a:ext cx="9509400" cy="123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7 CBP Grants</a:t>
            </a:r>
            <a:endParaRPr b="0" lang="en-US" sz="3400" spc="-1" strike="noStrike">
              <a:solidFill>
                <a:srgbClr val="ffffff"/>
              </a:solidFill>
              <a:latin typeface="Cambr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0" y="0"/>
          <a:ext cx="12192120" cy="6861240"/>
        </p:xfrm>
        <a:graphic>
          <a:graphicData uri="http://schemas.openxmlformats.org/drawingml/2006/table">
            <a:tbl>
              <a:tblPr/>
              <a:tblGrid>
                <a:gridCol w="8477280"/>
                <a:gridCol w="1938240"/>
                <a:gridCol w="1776600"/>
              </a:tblGrid>
              <a:tr h="646200">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Program Areas of Interest – Attachment G (in millions)</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67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TE</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3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5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70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73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idal Water Quality &amp; Accountabi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dal Water Quality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15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Develop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mp;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mit Review &amp; Rule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8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forc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4</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ean Water Rules &amp; Guid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esapeakeSta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 Program</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Competitive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85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6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0" y="0"/>
          <a:ext cx="12192120" cy="6858000"/>
        </p:xfrm>
        <a:graphic>
          <a:graphicData uri="http://schemas.openxmlformats.org/drawingml/2006/table">
            <a:tbl>
              <a:tblPr/>
              <a:tblGrid>
                <a:gridCol w="6448320"/>
                <a:gridCol w="2324160"/>
                <a:gridCol w="2119320"/>
                <a:gridCol w="1300320"/>
              </a:tblGrid>
              <a:tr h="112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Funding</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llocated</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TE</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2</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4,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1%</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317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9,501,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028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iladelphia</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43,259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172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apoli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0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Water</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forcement and Compliance Assur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7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General Counse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6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vironmental Inform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176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Administration and Resources Mgm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7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17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otal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0" y="0"/>
          <a:ext cx="12192120" cy="6858000"/>
        </p:xfrm>
        <a:graphic>
          <a:graphicData uri="http://schemas.openxmlformats.org/drawingml/2006/table">
            <a:tbl>
              <a:tblPr/>
              <a:tblGrid>
                <a:gridCol w="9182160"/>
                <a:gridCol w="3009960"/>
              </a:tblGrid>
              <a:tr h="541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Office Funding</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029,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36,3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nership and Executive Order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4,3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anag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29,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nd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 Nutrient/Sediment Reduc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er Qua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778,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Accountability and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
          <p:cNvPicPr/>
          <p:nvPr/>
        </p:nvPicPr>
        <p:blipFill>
          <a:blip r:embed="rId1"/>
          <a:srcRect l="10896" t="7436" r="11162" b="1161"/>
          <a:stretch/>
        </p:blipFill>
        <p:spPr>
          <a:xfrm>
            <a:off x="0" y="0"/>
            <a:ext cx="1219212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rcRect l="11250" t="7359" r="12329" b="1679"/>
          <a:stretch/>
        </p:blipFill>
        <p:spPr>
          <a:xfrm>
            <a:off x="0" y="0"/>
            <a:ext cx="1219212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5848200" y="230040"/>
          <a:ext cx="6123240" cy="6359760"/>
        </p:xfrm>
        <a:graphic>
          <a:graphicData uri="http://schemas.openxmlformats.org/drawingml/2006/table">
            <a:tbl>
              <a:tblPr/>
              <a:tblGrid>
                <a:gridCol w="3568680"/>
                <a:gridCol w="2554560"/>
              </a:tblGrid>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York</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bfd3e4"/>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 </a:t>
                      </a:r>
                      <a:r>
                        <a:rPr b="1" lang="en-US" sz="1200" spc="-1" strike="noStrike">
                          <a:solidFill>
                            <a:srgbClr val="000000"/>
                          </a:solidFill>
                          <a:latin typeface="Calibri"/>
                        </a:rPr>
                        <a:t>2,746,878</a:t>
                      </a:r>
                      <a:r>
                        <a:rPr b="1" lang="en-US" sz="1000" spc="-1" strike="noStrike">
                          <a:solidFill>
                            <a:srgbClr val="000000"/>
                          </a:solidFill>
                          <a:latin typeface="Calibri"/>
                        </a:rPr>
                        <a:t>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bfd3e4"/>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07,22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49,65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nnsylva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129,388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515,7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66,81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90,54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6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71,325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657,311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418,5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49,1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39,32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360,18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st 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75,027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72,311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00,13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9,667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2,91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bl>
          </a:graphicData>
        </a:graphic>
      </p:graphicFrame>
      <p:graphicFrame>
        <p:nvGraphicFramePr>
          <p:cNvPr id="380" name=""/>
          <p:cNvGraphicFramePr/>
          <p:nvPr/>
        </p:nvGraphicFramePr>
        <p:xfrm>
          <a:off x="157320" y="230040"/>
          <a:ext cx="5440320" cy="6359760"/>
        </p:xfrm>
        <a:graphic>
          <a:graphicData uri="http://schemas.openxmlformats.org/drawingml/2006/table">
            <a:tbl>
              <a:tblPr/>
              <a:tblGrid>
                <a:gridCol w="3171600"/>
                <a:gridCol w="2268720"/>
              </a:tblGrid>
              <a:tr h="2635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te Implementation</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bfd3e4"/>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Funding Amount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bfd3e4"/>
                    </a:solidFill>
                  </a:tcPr>
                </a:tc>
              </a:tr>
              <a:tr h="2448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4,796,7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732,49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297,1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 Government (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999,72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 Assistance (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3,0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776,142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4444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ter Protection Division (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468,2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laware</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593,265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820,465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66,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6,8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ct of Columbia</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85,820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82,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723,03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22,784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7,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yland</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9,709,012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65,7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58,047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31,27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6,2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734,96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02,79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rcRect l="8002" t="16823" r="8126" b="9398"/>
          <a:stretch/>
        </p:blipFill>
        <p:spPr>
          <a:xfrm>
            <a:off x="0" y="0"/>
            <a:ext cx="1219212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1341000" y="1838160"/>
            <a:ext cx="9448920" cy="41277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1"/>
              </a:rPr>
              <a:t>www.chesapeakeprogress.com/funding</a:t>
            </a:r>
            <a:r>
              <a:rPr b="0" lang="en-US" sz="3200" spc="-1" strike="noStrike">
                <a:solidFill>
                  <a:srgbClr val="ffffff"/>
                </a:solidFill>
                <a:latin typeface="Calibri"/>
              </a:rPr>
              <a:t> - </a:t>
            </a:r>
            <a:r>
              <a:rPr b="0" lang="en-US" sz="3200" spc="-1" strike="noStrike">
                <a:solidFill>
                  <a:srgbClr val="000000"/>
                </a:solidFill>
                <a:latin typeface="Calibri"/>
              </a:rPr>
              <a:t>Focuses more on Funding related to implementation of the 2014 Bay Watershed Agreement.</a:t>
            </a:r>
            <a:r>
              <a:rPr b="0" lang="en-US" sz="3200" spc="-1" strike="noStrike">
                <a:solidFill>
                  <a:srgbClr val="ffffff"/>
                </a:solidFill>
                <a:latin typeface="Calibri"/>
              </a:rPr>
              <a:t> </a:t>
            </a:r>
            <a:r>
              <a:rPr b="0" lang="en-US" sz="3200" spc="-1" strike="noStrike">
                <a:solidFill>
                  <a:srgbClr val="ff0000"/>
                </a:solidFill>
                <a:latin typeface="Calibri"/>
              </a:rPr>
              <a:t>Audience: Engaged CBP stakeholders</a:t>
            </a:r>
            <a:r>
              <a:rPr b="0" lang="en-US" sz="3200" spc="-1" strike="noStrike">
                <a:solidFill>
                  <a:srgbClr val="ffffff"/>
                </a:solidFill>
                <a:latin typeface="Calibri"/>
              </a:rPr>
              <a:t>.</a:t>
            </a: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2"/>
              </a:rPr>
              <a:t>www.chesapeakebay.net/about/how/funding</a:t>
            </a:r>
            <a:r>
              <a:rPr b="0" lang="en-US" sz="3200" spc="-1" strike="noStrike">
                <a:solidFill>
                  <a:srgbClr val="ffffff"/>
                </a:solidFill>
                <a:latin typeface="Calibri"/>
              </a:rPr>
              <a:t> - </a:t>
            </a:r>
            <a:r>
              <a:rPr b="0" lang="en-US" sz="3200" spc="-1" strike="noStrike">
                <a:solidFill>
                  <a:srgbClr val="000000"/>
                </a:solidFill>
                <a:latin typeface="Calibri"/>
              </a:rPr>
              <a:t>Overall funding information plus financing and economic benefit resources.  </a:t>
            </a:r>
            <a:r>
              <a:rPr b="0" lang="en-US" sz="3200" spc="-1" strike="noStrike">
                <a:solidFill>
                  <a:srgbClr val="ff0000"/>
                </a:solidFill>
                <a:latin typeface="Calibri"/>
              </a:rPr>
              <a:t>Audience: Interested public.</a:t>
            </a:r>
            <a:endParaRPr b="0" lang="en-US" sz="3200" spc="-1" strike="noStrike">
              <a:solidFill>
                <a:srgbClr val="ffffff"/>
              </a:solidFill>
              <a:latin typeface="Calibri"/>
            </a:endParaRPr>
          </a:p>
        </p:txBody>
      </p:sp>
      <p:sp>
        <p:nvSpPr>
          <p:cNvPr id="383" name="PlaceHolder 1"/>
          <p:cNvSpPr>
            <a:spLocks noGrp="1"/>
          </p:cNvSpPr>
          <p:nvPr>
            <p:ph type="title"/>
          </p:nvPr>
        </p:nvSpPr>
        <p:spPr>
          <a:xfrm>
            <a:off x="914400" y="664920"/>
            <a:ext cx="10499760" cy="96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ew Budget, Financing and Funding Web Pages Links</a:t>
            </a:r>
            <a:endParaRPr b="0" lang="en-US" sz="3600" spc="-1" strike="noStrike">
              <a:solidFill>
                <a:srgbClr val="ffffff"/>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341360" y="1866960"/>
            <a:ext cx="9509040" cy="4162320"/>
          </a:xfrm>
          <a:prstGeom prst="rect">
            <a:avLst/>
          </a:prstGeom>
          <a:noFill/>
          <a:ln w="0">
            <a:noFill/>
          </a:ln>
        </p:spPr>
        <p:txBody>
          <a:bodyPr anchor="t">
            <a:normAutofit/>
          </a:bodyPr>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ine</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P Authorization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dget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ions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we now?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7</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8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e Scenarios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CBP Budget And Financing Web Page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0" name="PlaceHolder 1"/>
          <p:cNvSpPr>
            <a:spLocks noGrp="1"/>
          </p:cNvSpPr>
          <p:nvPr>
            <p:ph type="title"/>
          </p:nvPr>
        </p:nvSpPr>
        <p:spPr>
          <a:xfrm>
            <a:off x="1341360" y="227160"/>
            <a:ext cx="95090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Overview</a:t>
            </a:r>
            <a:endParaRPr b="0" lang="en-US" sz="3600" spc="-1" strike="noStrike">
              <a:solidFill>
                <a:srgbClr val="ffffff"/>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1341000" y="1130040"/>
            <a:ext cx="9448920" cy="4127400"/>
          </a:xfrm>
          <a:prstGeom prst="rect">
            <a:avLst/>
          </a:prstGeom>
          <a:noFill/>
          <a:ln w="0">
            <a:noFill/>
          </a:ln>
        </p:spPr>
        <p:txBody>
          <a:bodyPr anchor="t">
            <a:normAutofit fontScale="84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uiding Philosophies</a:t>
            </a:r>
            <a:endParaRPr b="0" lang="en-US" sz="30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of law: </a:t>
            </a:r>
            <a:r>
              <a:rPr b="0" lang="en-US" sz="2400" spc="-1" strike="noStrike">
                <a:solidFill>
                  <a:srgbClr val="000000"/>
                </a:solidFill>
                <a:latin typeface="Calibri"/>
              </a:rPr>
              <a:t>EPA’s work won’t go anywhere if it constantly faces legal challenges. By administering laws enacted by Congress and issuing environmental rules tethered to those statutes, EPA can achieve so much more for the protection of human health and our environment.</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operative federalism:</a:t>
            </a:r>
            <a:r>
              <a:rPr b="0" lang="en-US" sz="2400" spc="-1" strike="noStrike">
                <a:solidFill>
                  <a:srgbClr val="000000"/>
                </a:solidFill>
                <a:latin typeface="Calibri"/>
              </a:rPr>
              <a:t>  States and tribes are our partners in enforcing environmental laws and programs—EPA wants to build trust and a strong working relationship with these partners to get results for all Americans.</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participation:</a:t>
            </a:r>
            <a:r>
              <a:rPr b="0" lang="en-US" sz="2400" spc="-1" strike="noStrike">
                <a:solidFill>
                  <a:srgbClr val="000000"/>
                </a:solidFill>
                <a:latin typeface="Calibri"/>
              </a:rPr>
              <a:t>  EPA’s authority is derived from the democratic process, and that process is made more credible by engaging with the diverse views of the American public, and addressing stakeholder input on the impacts of rules on families, jobs, and communities.</a:t>
            </a:r>
            <a:endParaRPr b="0" lang="en-US" sz="2400" spc="-1" strike="noStrike">
              <a:solidFill>
                <a:srgbClr val="ffffff"/>
              </a:solidFill>
              <a:latin typeface="Calibri"/>
            </a:endParaRPr>
          </a:p>
        </p:txBody>
      </p:sp>
      <p:sp>
        <p:nvSpPr>
          <p:cNvPr id="385"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a:t>
            </a:r>
            <a:endParaRPr b="0" lang="en-US" sz="3800" spc="-1" strike="noStrike">
              <a:solidFill>
                <a:srgbClr val="ffffff"/>
              </a:solidFill>
              <a:latin typeface="Cambri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617040" y="1309320"/>
            <a:ext cx="10796760" cy="4127400"/>
          </a:xfrm>
          <a:prstGeom prst="rect">
            <a:avLst/>
          </a:prstGeom>
          <a:noFill/>
          <a:ln w="0">
            <a:noFill/>
          </a:ln>
        </p:spPr>
        <p:txBody>
          <a:bodyPr anchor="t">
            <a:normAutofit fontScale="92000"/>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hilosophies will guide our work to advance progress in key priority areas:</a:t>
            </a:r>
            <a:endParaRPr b="0" lang="en-US" sz="2400" spc="-1" strike="noStrike">
              <a:solidFill>
                <a:srgbClr val="ffffff"/>
              </a:solidFill>
              <a:latin typeface="Calibri"/>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upporting Core Drinking Water and Clean Water Infrastructure Project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Restoring Contaminated Sites to Productive Use, Creating Jobs and New Economic Opportunit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taining Air Quality Standard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mplementing TSCA Reform Legislation, Instilling New Confidence and Safety for American Famil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suring Sound Science and Research</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tecting Non-Compliance and Performing Required Federal Inspection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uilding a Stronger, More Responsive EPA</a:t>
            </a:r>
            <a:endParaRPr b="0" lang="en-US" sz="2200" spc="-1" strike="noStrike">
              <a:solidFill>
                <a:srgbClr val="ffffff"/>
              </a:solidFill>
              <a:latin typeface="Calibri"/>
            </a:endParaRPr>
          </a:p>
        </p:txBody>
      </p:sp>
      <p:sp>
        <p:nvSpPr>
          <p:cNvPr id="387"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 - continued</a:t>
            </a:r>
            <a:endParaRPr b="0" lang="en-US" sz="3800" spc="-1" strike="noStrike">
              <a:solidFill>
                <a:srgbClr val="ffffff"/>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790800" y="2361960"/>
            <a:ext cx="4096080" cy="1104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mbria"/>
              </a:rPr>
              <a:t>QUESTIONS? </a:t>
            </a:r>
            <a:endParaRPr b="0" lang="en-US" sz="49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412560"/>
            <a:ext cx="8607600" cy="755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Budget-Appropriations Timeline</a:t>
            </a:r>
            <a:endParaRPr b="0" lang="en-US" sz="3400" spc="-1" strike="noStrike">
              <a:solidFill>
                <a:srgbClr val="ffffff"/>
              </a:solidFill>
              <a:latin typeface="Cambria"/>
            </a:endParaRPr>
          </a:p>
        </p:txBody>
      </p:sp>
      <p:pic>
        <p:nvPicPr>
          <p:cNvPr id="352" name="Diagram 4" descr="Basic Timeline"/>
          <p:cNvPicPr/>
          <p:nvPr/>
        </p:nvPicPr>
        <p:blipFill>
          <a:blip r:embed="rId1"/>
          <a:stretch/>
        </p:blipFill>
        <p:spPr>
          <a:xfrm>
            <a:off x="1146240" y="1530360"/>
            <a:ext cx="9899640" cy="4522680"/>
          </a:xfrm>
          <a:prstGeom prst="rect">
            <a:avLst/>
          </a:prstGeom>
          <a:ln w="0">
            <a:noFill/>
          </a:ln>
        </p:spPr>
      </p:pic>
      <p:sp>
        <p:nvSpPr>
          <p:cNvPr id="353" name="Rectangle 1"/>
          <p:cNvSpPr/>
          <p:nvPr/>
        </p:nvSpPr>
        <p:spPr>
          <a:xfrm>
            <a:off x="6639840" y="1751040"/>
            <a:ext cx="142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alibri"/>
              </a:rPr>
              <a:t>You are HERE</a:t>
            </a:r>
            <a:endParaRPr b="0" lang="en-US" sz="1800" spc="-1" strike="noStrike">
              <a:solidFill>
                <a:srgbClr val="ffffff"/>
              </a:solidFill>
              <a:latin typeface="Calibri"/>
            </a:endParaRPr>
          </a:p>
        </p:txBody>
      </p:sp>
      <p:cxnSp>
        <p:nvCxnSpPr>
          <p:cNvPr id="354" name="Straight Arrow Connector 5"/>
          <p:cNvCxnSpPr/>
          <p:nvPr/>
        </p:nvCxnSpPr>
        <p:spPr>
          <a:xfrm>
            <a:off x="7370280" y="2182320"/>
            <a:ext cx="1080" cy="1008720"/>
          </a:xfrm>
          <a:prstGeom prst="straightConnector1">
            <a:avLst/>
          </a:prstGeom>
          <a:ln w="57240">
            <a:solidFill>
              <a:srgbClr val="ff66ff"/>
            </a:solidFill>
            <a:miter/>
            <a:tailEnd len="med" type="triangle" w="med"/>
          </a:ln>
        </p:spPr>
      </p:cxn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572760" y="1464840"/>
            <a:ext cx="7527960" cy="47163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Water Act, Section 117, provides authority for the Chesapeake Bay Program and directs the EPA to maintain a Chesapeake Bay Program Office (CBPO) and to coordinate many of the activities of the program.    It was last  amended Nov. 7, 2000</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maximum </a:t>
            </a:r>
            <a:r>
              <a:rPr b="0" i="1" lang="en-US" sz="2400" spc="-1" strike="noStrike" u="sng">
                <a:solidFill>
                  <a:srgbClr val="000000"/>
                </a:solidFill>
                <a:uFillTx/>
                <a:latin typeface="Calibri"/>
              </a:rPr>
              <a:t>authorization</a:t>
            </a:r>
            <a:r>
              <a:rPr b="0" lang="en-US" sz="2400" spc="-1" strike="noStrike">
                <a:solidFill>
                  <a:srgbClr val="000000"/>
                </a:solidFill>
                <a:latin typeface="Calibri"/>
              </a:rPr>
              <a:t> level is set at $40 million per year (through 2005).  </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to exceed that level – and has for years.</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congressional </a:t>
            </a:r>
            <a:r>
              <a:rPr b="0" lang="en-US" sz="2400" spc="-1" strike="noStrike" u="sng">
                <a:solidFill>
                  <a:srgbClr val="000000"/>
                </a:solidFill>
                <a:uFillTx/>
                <a:latin typeface="Calibri"/>
              </a:rPr>
              <a:t>appropriations </a:t>
            </a:r>
            <a:r>
              <a:rPr b="0" lang="en-US" sz="2400" spc="-1" strike="noStrike">
                <a:solidFill>
                  <a:srgbClr val="000000"/>
                </a:solidFill>
                <a:latin typeface="Calibri"/>
              </a:rPr>
              <a:t>funding level is $73 million</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6" name="PlaceHolder 1"/>
          <p:cNvSpPr>
            <a:spLocks noGrp="1"/>
          </p:cNvSpPr>
          <p:nvPr>
            <p:ph type="title"/>
          </p:nvPr>
        </p:nvSpPr>
        <p:spPr>
          <a:xfrm>
            <a:off x="974880" y="466560"/>
            <a:ext cx="9510480" cy="812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CBP Authorization and Appropriation </a:t>
            </a:r>
            <a:endParaRPr b="0" lang="en-US" sz="3400" spc="-1" strike="noStrike">
              <a:solidFill>
                <a:srgbClr val="ffffff"/>
              </a:solidFill>
              <a:latin typeface="Cambria"/>
            </a:endParaRPr>
          </a:p>
        </p:txBody>
      </p:sp>
      <p:pic>
        <p:nvPicPr>
          <p:cNvPr id="357" name="Picture 1" descr=""/>
          <p:cNvPicPr/>
          <p:nvPr/>
        </p:nvPicPr>
        <p:blipFill>
          <a:blip r:embed="rId1"/>
          <a:srcRect l="7150" t="17420" r="55270" b="6709"/>
          <a:stretch/>
        </p:blipFill>
        <p:spPr>
          <a:xfrm>
            <a:off x="8308800" y="1279440"/>
            <a:ext cx="3521160" cy="444348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4984920" y="1363320"/>
            <a:ext cx="7207200" cy="47084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 2017 Appropriations process completed May 5, 2017; Full funding for CBP ($73 million) and all geo programs.</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2018 President’s Budget – Proposes eliminating all CBP and geo programs funding.</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ident’s </a:t>
            </a:r>
            <a:r>
              <a:rPr b="0" i="1" lang="en-US" sz="2600" spc="-1" strike="noStrike">
                <a:solidFill>
                  <a:srgbClr val="000000"/>
                </a:solidFill>
                <a:latin typeface="Calibri"/>
              </a:rPr>
              <a:t>Comprehensive Plan for Reforming the Federal Government and Reducing the Federal Civilian Workforce </a:t>
            </a:r>
            <a:r>
              <a:rPr b="0" lang="en-US" sz="2600" spc="-1" strike="noStrike">
                <a:solidFill>
                  <a:srgbClr val="000000"/>
                </a:solidFill>
                <a:latin typeface="Calibri"/>
              </a:rPr>
              <a:t>issued April 2017</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ssion of FY2018 full Presidents Budget to Congress planned for May 22, 2017. </a:t>
            </a:r>
            <a:endParaRPr b="0" lang="en-US" sz="2600" spc="-1" strike="noStrike">
              <a:solidFill>
                <a:srgbClr val="ffffff"/>
              </a:solidFill>
              <a:latin typeface="Calibri"/>
            </a:endParaRPr>
          </a:p>
        </p:txBody>
      </p:sp>
      <p:sp>
        <p:nvSpPr>
          <p:cNvPr id="359" name="PlaceHolder 1"/>
          <p:cNvSpPr>
            <a:spLocks noGrp="1"/>
          </p:cNvSpPr>
          <p:nvPr>
            <p:ph type="title"/>
          </p:nvPr>
        </p:nvSpPr>
        <p:spPr>
          <a:xfrm>
            <a:off x="132840" y="0"/>
            <a:ext cx="95108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urrent Conditions:  </a:t>
            </a:r>
            <a:endParaRPr b="0" lang="en-US" sz="3400" spc="-1" strike="noStrike">
              <a:solidFill>
                <a:srgbClr val="ffffff"/>
              </a:solidFill>
              <a:latin typeface="Cambria"/>
            </a:endParaRPr>
          </a:p>
        </p:txBody>
      </p:sp>
      <p:pic>
        <p:nvPicPr>
          <p:cNvPr id="360" name="Picture 1" descr=""/>
          <p:cNvPicPr/>
          <p:nvPr/>
        </p:nvPicPr>
        <p:blipFill>
          <a:blip r:embed="rId1"/>
          <a:srcRect l="0" t="0" r="22477" b="0"/>
          <a:stretch/>
        </p:blipFill>
        <p:spPr>
          <a:xfrm>
            <a:off x="223920" y="1967040"/>
            <a:ext cx="4670280" cy="3402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 descr=""/>
          <p:cNvPicPr/>
          <p:nvPr/>
        </p:nvPicPr>
        <p:blipFill>
          <a:blip r:embed="rId1"/>
          <a:stretch/>
        </p:blipFill>
        <p:spPr>
          <a:xfrm>
            <a:off x="264960" y="1878120"/>
            <a:ext cx="11693520" cy="3508200"/>
          </a:xfrm>
          <a:prstGeom prst="rect">
            <a:avLst/>
          </a:prstGeom>
          <a:ln w="9360">
            <a:solidFill>
              <a:srgbClr val="000000"/>
            </a:solidFill>
            <a:miter/>
          </a:ln>
        </p:spPr>
      </p:pic>
      <p:sp>
        <p:nvSpPr>
          <p:cNvPr id="362" name="Rectangle 4"/>
          <p:cNvSpPr/>
          <p:nvPr/>
        </p:nvSpPr>
        <p:spPr>
          <a:xfrm>
            <a:off x="834120" y="141120"/>
            <a:ext cx="105534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luses and Minuses</a:t>
            </a:r>
            <a:endParaRPr b="0" lang="en-US" sz="4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t>
            </a:r>
            <a:r>
              <a:rPr b="0" i="1" lang="en-US" sz="4000" spc="-1" strike="noStrike">
                <a:solidFill>
                  <a:srgbClr val="ba8f2d"/>
                </a:solidFill>
                <a:latin typeface="Calibri"/>
              </a:rPr>
              <a:t>Proposed</a:t>
            </a:r>
            <a:r>
              <a:rPr b="0" i="1" lang="en-US" sz="4000" spc="-1" strike="noStrike">
                <a:solidFill>
                  <a:srgbClr val="ffffff"/>
                </a:solidFill>
                <a:latin typeface="Calibri"/>
              </a:rPr>
              <a:t> </a:t>
            </a:r>
            <a:r>
              <a:rPr b="0" lang="en-US" sz="4000" spc="-1" strike="noStrike">
                <a:solidFill>
                  <a:srgbClr val="000000"/>
                </a:solidFill>
                <a:latin typeface="Calibri"/>
              </a:rPr>
              <a:t>FY2018 Presidential Budget (3/17)</a:t>
            </a:r>
            <a:endParaRPr b="0" lang="en-US" sz="4000" spc="-1" strike="noStrike">
              <a:solidFill>
                <a:srgbClr val="ffffff"/>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399600" y="1180800"/>
            <a:ext cx="11410920" cy="56768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elimination </a:t>
            </a:r>
            <a:r>
              <a:rPr b="0" lang="en-US" sz="2400" spc="-1" strike="noStrike">
                <a:solidFill>
                  <a:srgbClr val="000000"/>
                </a:solidFill>
                <a:latin typeface="Calibri"/>
              </a:rPr>
              <a:t>of funding in FY 2018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 Great Lakes Restoration Initiative, NEPs and other geographic programs</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 Grant Program, Coastal Zone Management Program, and National Estuarine Research Reserve Program in NOAA.</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reductions </a:t>
            </a:r>
            <a:r>
              <a:rPr b="0" lang="en-US" sz="2400" spc="-1" strike="noStrike">
                <a:solidFill>
                  <a:srgbClr val="000000"/>
                </a:solidFill>
                <a:latin typeface="Calibri"/>
              </a:rPr>
              <a:t>in funding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EPA funding by 31%; CWA Sec. 106 and Sec. 319 funding, etc.</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the National Science Foundation, National Institutes of Health (-18%), EPA's Office of Research and Development (-48%), NOAA's extramural research grants, National Institute for Standards and Technology (NIST), NASA's Earth science portfolio, and the U.S. Geological Service (-15%)</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ductions would take place retroactively in 2017: NSF, Sea Grant, NOAA and NIST.</a:t>
            </a:r>
            <a:endParaRPr b="0" lang="en-US" sz="2400" spc="-1" strike="noStrike">
              <a:solidFill>
                <a:srgbClr val="ffffff"/>
              </a:solidFill>
              <a:latin typeface="Calibri"/>
            </a:endParaRPr>
          </a:p>
        </p:txBody>
      </p:sp>
      <p:sp>
        <p:nvSpPr>
          <p:cNvPr id="364" name="PlaceHolder 1"/>
          <p:cNvSpPr>
            <a:spLocks noGrp="1"/>
          </p:cNvSpPr>
          <p:nvPr>
            <p:ph type="title"/>
          </p:nvPr>
        </p:nvSpPr>
        <p:spPr>
          <a:xfrm>
            <a:off x="609120" y="138240"/>
            <a:ext cx="9509400" cy="868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President’s Budget (03/17)</a:t>
            </a:r>
            <a:endParaRPr b="0" lang="en-US" sz="3400" spc="-1" strike="noStrike">
              <a:solidFill>
                <a:srgbClr val="ffffff"/>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444240" y="1423800"/>
            <a:ext cx="11077560" cy="515772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s Budget conveys the White House’s </a:t>
            </a:r>
            <a:r>
              <a:rPr b="0" i="1" lang="en-US" sz="2800" spc="-1" strike="noStrike">
                <a:solidFill>
                  <a:srgbClr val="000000"/>
                </a:solidFill>
                <a:latin typeface="Calibri"/>
              </a:rPr>
              <a:t>desired</a:t>
            </a:r>
            <a:r>
              <a:rPr b="0" lang="en-US" sz="2800" spc="-1" strike="noStrike">
                <a:solidFill>
                  <a:srgbClr val="000000"/>
                </a:solidFill>
                <a:latin typeface="Calibri"/>
              </a:rPr>
              <a:t> funding levels.  But, it is Congress that actually grants the funding through 12 appropriations bills which</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1:  Congress passes annual budget resolution which sets the overall framework for funding.  It is not actually law, but essentially binds appropriation decisions later.  They  establish the top-line numbers for revenues, mandatory or direct spending, and discretionary spending.  Should be completed by April 15, but often delayed.  </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2:  House Appropriations Committees and subcommittees produce spending bills followed by Senate appropriations committees.</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3: President signs funding bills into law.</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6" name="PlaceHolder 1"/>
          <p:cNvSpPr>
            <a:spLocks noGrp="1"/>
          </p:cNvSpPr>
          <p:nvPr>
            <p:ph type="title"/>
          </p:nvPr>
        </p:nvSpPr>
        <p:spPr>
          <a:xfrm>
            <a:off x="444600" y="157320"/>
            <a:ext cx="9510480" cy="976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ppropriations Process</a:t>
            </a:r>
            <a:endParaRPr b="0" lang="en-US" sz="3600" spc="-1" strike="noStrike">
              <a:solidFill>
                <a:srgbClr val="ffffff"/>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1036800" y="1174680"/>
            <a:ext cx="9509040" cy="503568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Y 2018</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ident’s Budget or similar reduction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gnores and enacts current funding level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 reduction or some other % reduction </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8bb8"/>
                </a:solidFill>
                <a:latin typeface="Calibri"/>
              </a:rPr>
              <a:t>CBP staff looking at multiple scenarios for adjusting to possible reductions or a complete elimination of Section 117 fund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1"/>
          <p:cNvSpPr>
            <a:spLocks noGrp="1"/>
          </p:cNvSpPr>
          <p:nvPr>
            <p:ph type="title"/>
          </p:nvPr>
        </p:nvSpPr>
        <p:spPr>
          <a:xfrm>
            <a:off x="579600" y="263160"/>
            <a:ext cx="9509040" cy="771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Possible Appropriations Scenarios</a:t>
            </a:r>
            <a:endParaRPr b="0" lang="en-US" sz="3400" spc="-1" strike="noStrike">
              <a:solidFill>
                <a:srgbClr val="ffffff"/>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5:30:38Z</dcterms:created>
  <dc:creator/>
  <dc:description/>
  <cp:keywords/>
  <dc:language>en-US</dc:language>
  <cp:lastModifiedBy/>
  <dcterms:modified xsi:type="dcterms:W3CDTF">2017-05-19T19:01:3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4605099991</vt:lpwstr>
  </property>
</Properties>
</file>