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4142880" y="-36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496880" y="1200240"/>
            <a:ext cx="4321440" cy="32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731880" y="4619520"/>
            <a:ext cx="5851440" cy="3781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0" y="911808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4142880" y="911808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BF3A-6AB7-4899-B8BB-685BBEBEA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496880" y="1200240"/>
            <a:ext cx="4321440" cy="3240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731880" y="4619520"/>
            <a:ext cx="585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4143240" y="911844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4047-B44A-4F7E-8754-7AB61BC3A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496880" y="1200240"/>
            <a:ext cx="4321440" cy="3240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731880" y="4619520"/>
            <a:ext cx="585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lide Number Placeholder 3"/>
          <p:cNvSpPr/>
          <p:nvPr/>
        </p:nvSpPr>
        <p:spPr>
          <a:xfrm>
            <a:off x="4143240" y="911844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BC7B-D6F0-49D7-9A47-DF633BFE0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496880" y="1200240"/>
            <a:ext cx="4321440" cy="3240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731880" y="4619520"/>
            <a:ext cx="585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lide Number Placeholder 3"/>
          <p:cNvSpPr/>
          <p:nvPr/>
        </p:nvSpPr>
        <p:spPr>
          <a:xfrm>
            <a:off x="4143240" y="911844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BC25-0B9A-474D-A368-241679490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496880" y="1200240"/>
            <a:ext cx="4321440" cy="3240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731880" y="4619520"/>
            <a:ext cx="585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4143240" y="911844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F20A-3735-4F2C-80DD-F662ABF8E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46D-C6B0-46B1-BB26-796BB928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304-13C0-474B-ADF9-4F4F7185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003AB-2858-41A9-B6AA-8B9A0B6F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18BE2-437D-4A7C-8F0D-3723E78D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08B3D-39D4-4050-ADDB-95CCDFF8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B48A0-86DC-49D1-BB2B-9A3CB8A1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8C99A-2BCC-4E2A-9CCD-0744FA5F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721D7-B1D0-49AF-8335-CD70A192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B5AD2-EFAC-40A2-8BA8-639746CC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30458-4B4D-40A1-B1C9-B0C2191B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E5498-3EDE-4002-92C4-542F372D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5FF8F-6253-43C5-9D91-67534155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700A-BDB6-43FD-AE9B-87520963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C9692-1930-47A9-B888-3505AC20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6641E-DEBE-432D-9B5B-75D38056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D2F14-8063-431A-874E-8EAB0167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133D7-1108-4D07-AD2A-836F9A6C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D8876-78F4-4952-8C09-8DCC6594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46DD9-023E-4EAF-9219-DFC7E7E4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B2123-1C43-4609-AC00-83B18DCE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5AFE7-B9EC-404A-A80B-2B77208F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CB09A-89D3-4549-B08D-258C89A7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CB804-64C6-48B5-8AA5-F6DCAF66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793-93FB-40CA-BC25-B2C2CBAC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1B073-8589-453F-A286-6CA14CB4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57945-EB77-433F-8576-8044ED36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9C265-D0DF-4018-936B-0C4B76CA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FF5E8-1521-40A7-98CB-374741A3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77C13-D536-4AE1-B940-A1E7B711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2C219-5CEC-47DE-82D5-632A04AC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8304D-889B-4A28-9625-AE5D9569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292C8-3B2C-4D34-A13D-A0A276F6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4E14A-088C-44AF-B153-D59F23C0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0606C-4DE8-4D7C-BEE2-60946756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2DC4-6A6E-49F0-8FBB-7F0157EA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A2E11-1464-4593-BD71-E8705F67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0F873-7102-43B4-A803-16CAA07D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70F9B-9F75-4D57-93FE-D509C207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DF192-764D-4799-AB20-B3764A01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6BF8B-360D-483E-A14A-0D79D185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24FFA-2126-425C-B2D6-7781EFDC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54D69-0250-4289-9E25-F2BF0ADB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DE3A2-9B85-4DE1-A99A-51620EB5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83269-930A-40D7-BBE4-8F1B2B48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41905-CF7D-4A86-BE09-5A0C3AF2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6945-F0B5-4080-B30B-1D86B7E9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89539-09DC-41BD-93C8-443E74B7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10087-D65F-4C5E-8D43-28BFD89E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1DA0B-B6C9-4D49-935C-A2E1E15C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FDF94-B871-4B35-B360-9F3E6D58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78F3A-213C-4635-BCD6-F5F037CE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A90D7-F9C1-4624-8DBB-2BFB108D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368DC-896F-4823-BFDB-B96B09E1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F400A2-4A81-40EE-9E73-9A865F95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8BAE8-9901-4D35-A365-FE17CED4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D66AC-F5AE-4159-8D64-8B598E58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8239-4501-42D0-963B-AC96F2F2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66C98-4D7E-46B0-BDB8-88C541EF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7079D-6444-42E3-AFD9-10236202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6803F-6A3E-4B61-9299-CD72A3BC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28F4F-8E51-4100-8F72-BB75CCBB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C1543-5E8F-421E-999A-02B83D40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F7F6A-E273-4BC2-93D5-2AC35AA7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68454E-B560-4B44-8344-9EB833C4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52097B-3620-4DB8-8985-0A9401DB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39CA9-DF0F-4C51-9CFC-E10DCDA1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B3181-45C3-4AEC-AD18-9D676A2C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DFD6-843F-41B6-9CA8-C3AED96C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BB508-8412-4126-9AC6-8772FE40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46C707-DDB8-4B41-A862-E9360FA6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A8F879-20A9-4237-8610-EB8EE0B2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EC362-8597-4CD0-BCE1-BAA5F371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8D00F-9367-4FBF-93F1-673EB048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5D905-5DC5-459C-98F6-BE32F0ED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5D4C18-370F-45CD-92E1-1310BB34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431C9-2280-4412-943A-439CD22D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A6E4D-5017-4AD1-AF61-2E82DE7B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12E494-49BF-43DF-AC22-A5E8638D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9C16-F333-44B5-8E47-52623A73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E30964-5D66-4E50-B8A0-C01ABECC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EBFE1-412D-4E8D-AC16-FF9E0222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50B18-3513-4C4B-A4E0-51F38EA6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5216B6-B820-4334-AD5C-653D3470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CC280-1079-4390-98D0-32FB9670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C27714-A1F3-4D38-8D21-2C2522FD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66F87-6F2D-4654-902C-5E9BAA3A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9ED45-1A84-4EAE-BB5C-08016CD0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3B89A1-3EC6-44E5-A1FA-48E77C89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00353E-50DF-4C6F-AA84-D23BFCCB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B971-606B-496C-8C75-1EDBFA7C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E3AB5C-2F8C-4DDA-95EE-C1759F52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A79D8-4478-41D8-B354-A6C33DC2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83A1EC-25D2-4471-B5C3-4162F35E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4F233-9FE8-47F5-88EA-B884AE63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C3E85-ADC8-47C8-A0B2-03E4F812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594AE2-76FE-4CEF-BBA7-60F29153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5E0E67-FE93-475A-93BC-F5EED6DD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27058E-89C7-47EF-A723-C5082983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E1D50C-31BB-4A60-AA53-2C8CC433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C197DE-8A8E-4C85-9551-912CDB9C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F6C5-C896-4AA0-8349-F8BE0D23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B45F06-C753-41A5-944D-25E608AF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ADFDB1-24B6-4B52-8BC4-6A5FD0CF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B0C156-3B6C-47B7-A88D-0FFE933A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71869F-CD49-4EC6-BE49-64AFBF4E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B1CD7-CCD3-4AF9-BA84-6DA08078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4D63F2-D10C-4D47-BD3C-696A7AEC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3884F9-F9D1-476A-94C4-223C5E99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A1D109-18DC-48F9-BF46-C282FF2F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8C45A5-D22B-4105-9FA0-D886540C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C7B63C-5F78-433A-962D-1B58E151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A64-4B39-4CB6-AB8C-EE5EADF5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AD1C-F484-4E16-B487-C5D97488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A00776-B93D-4F8F-8B0A-95381ECB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E0512-8EF1-4E8A-8689-EFC7BAE7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76654-722C-41A1-808E-140C4751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0C7F89-02B6-4581-BF67-695383FC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0A85C4-B7AD-4E35-9093-D1AD2F39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639E-5B37-4B35-8D64-B0F11360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783F-6B0D-41B2-9DA4-823279AA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21BF-0623-4CEE-9B2F-7097637C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AFE9-359C-4A19-9D6D-DD832523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4C1C3-9F71-4B84-8C37-8127C79B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9048-923D-4833-AFFF-CE6C0147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2C540-3FFC-46F9-A04D-38FABD95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86BBB-C34C-4CB6-878F-F6B5938C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F9C3-A25E-4486-AB52-9FCAF676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1FC-9DBF-405E-8724-8829CA6C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D849A-C4F6-40AA-A823-A5FE5DBE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69F3-5A46-4D52-91B3-124688CA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E0E38-B799-418E-88BF-9EDA1704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B81C7-8421-43C3-AC28-705558C2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37647-1045-4766-B8D4-94623BAE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1129-012A-4C83-8AB5-C6A992C4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D109-8215-4356-9E04-C2B9B3FA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B8345-DFDF-4096-BBAD-E2094812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0CB3F-ABAF-4178-9185-05E38836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0D7FA-B4DC-455E-98B5-137F0E98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F9E-C8BD-4735-949B-3468E11F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B41D3-A0AC-4CD1-8DB5-7323DD4D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102D-0332-4E1D-A8EC-8DC7B6CC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2DEF2-332B-40A0-97D8-EDA8C1A8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14895-A6DF-4AD8-ACBA-1F8406A3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E83E9-BB08-49F8-B74B-19D36D37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6E867-DFF0-487F-A488-0AE743C2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4B71A-8259-40DE-8CD2-6B93ED36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651DF-B0F1-40D5-BB39-A4218F88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9E494-35C0-4F32-BFC1-44710EED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2CEAD-62CA-4C35-8933-0BAF6D00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636-D49E-4A7D-A6C0-200EA1A5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57052-D0CF-45C1-8B2D-58A445E0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E62B5-C7CA-4A60-8BCE-6D35057A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C18DA-F37A-4DED-A113-32AD4A0D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515ED-DBB4-406E-8E7F-FA1EF028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F828C-15A7-4A8B-8AD3-30DC2CE4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4AF6B-D78C-46A6-9934-970C4E6D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D02D1-E576-49DC-A8DE-FBBCAAB2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EE102-AEAC-449D-B388-C007FAD7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BC633-FD71-4678-8D64-83E31DE6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9556B-1A4F-461B-878C-AC49BE73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38E-4B72-480C-9763-AFBDD961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2CBB2-4D03-44C7-946F-FD13FA1A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E2107-31FB-41A0-AD39-EED14801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6BB62-D13F-4A50-AEC3-44D441EA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88B4C-D9D1-4AA3-9C6A-7EA0747E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2EEB1-B4E5-49D8-84D8-C6B45443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13DA6-58E9-4EB1-8AC0-EEF4653F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1297F-EA01-4F76-BD7D-711DD5CB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B108B-B1FE-40B8-A8EB-D355AF2E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C7EA9-4DB6-443B-A07F-A28B751E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5A82C-2030-4DDA-AC53-A44C0037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A81-04D0-47B0-A19B-34DBD022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7DAA9-46C7-4150-B209-D2067CD1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46CA6-4D2E-48A9-8029-BADB75C2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10391-A351-4D95-829E-2F4669FB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25325-3FA5-42C6-A656-4DB3F530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55CDF-A74C-4879-A2D2-7F6A02CC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E6FF5-53B9-455D-9D8F-D55D216E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4BE83-3772-4C29-9B8E-20EF0F78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E43A4-434C-4C87-9438-FA3E2167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016B2-4228-45C6-82E4-FEE6C25C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B37A4-175B-41AA-BB4D-D1FA0E82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CCD-91D9-4426-BB1F-78593CBD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C9E64-ABDB-4F4D-8919-C7581FFF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13FE2-D61C-46A3-B846-E6A67CD9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121F5-252C-4F8E-AB14-43A788A0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C4D08-4C69-48C9-8FEF-7C4D2022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0AFD5-F285-4D98-940E-FAC4971D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E2E73-EC09-4172-AAB3-07791A16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031C4-B45A-4A3B-A158-74ECADEF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BEEAE-5254-4B1E-B99A-908CCB4D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3384B-FB95-4433-8E68-3B0FDE8A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41975-3B36-4F0B-803C-78014EBC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7D5-248D-453A-91A8-B696C6B9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2D6ED-268D-4454-9E7B-B8DCF930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60A6F-4DB5-4176-91EC-8D6AA2F8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3F7B5-BFF8-436A-A982-88F4867F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E97C2-C610-41A3-AD62-FAFEFDA4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18D76-8170-4B2C-B735-E8FB0621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6F94D-3766-4D81-90F9-0D89E3EE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CEEF5-5F5F-4871-9362-3EBF8FDB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D1FEC-2B0A-423C-81CA-1A8C739B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1F310-656B-4058-A9E5-6563F569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1475E-60B6-479C-A187-395498DD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184B-26F7-4615-A857-34059BBA664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56E8-B6EB-46E4-9036-6686C89D4DA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B0D1-6850-4900-874E-D8FEF66E4CE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719F-6A7C-4AA4-A716-AFD1929CE54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3C1B-8F2C-4039-9A1A-202454ECCED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AD06-726F-4A2E-912C-2938F91DDE2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6CD4-2329-421C-8670-2A0BAB8F48E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1AF1-BFC4-4F24-9839-A7615AD3896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5AE0-6B9E-472A-BBA1-2E1712AF24D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AEF1-689B-47C8-BA7A-753C04D1B31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CA83-6152-4D43-A6A8-64554984561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6941-2B15-4BCD-B6C9-A86ADCF7317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72DA-BF1E-4A04-951E-EA42134CB85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396B-BD29-4AED-891F-7CFA414F577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6CFD-04F0-4AED-A5D7-EBAC8497A73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F46A-6CB8-4421-B250-4842B0DB7C7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18F5-CA41-4D0D-9367-716F5179AF3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hesapeakebay.net/groups/group/Water_Quality_Goal_Implementation_Tea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294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0066cc"/>
                </a:solidFill>
                <a:latin typeface="Century Gothic"/>
              </a:rPr>
              <a:t>Chesapeake Bay TMDL </a:t>
            </a:r>
            <a:br>
              <a:rPr sz="4500"/>
            </a:br>
            <a:r>
              <a:rPr b="1" lang="en-US" sz="4500" spc="-1" strike="noStrike">
                <a:solidFill>
                  <a:srgbClr val="0066cc"/>
                </a:solidFill>
                <a:latin typeface="Century Gothic"/>
              </a:rPr>
              <a:t>2017 Midpoint Assessment: </a:t>
            </a:r>
            <a:br>
              <a:rPr sz="4500"/>
            </a:br>
            <a:r>
              <a:rPr b="1" lang="en-US" sz="4500" spc="-1" strike="noStrike">
                <a:solidFill>
                  <a:srgbClr val="0066cc"/>
                </a:solidFill>
                <a:latin typeface="Century Gothic"/>
              </a:rPr>
              <a:t>A Critical Path Forward</a:t>
            </a:r>
            <a:endParaRPr b="0" lang="en-US" sz="4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1728720" y="4038480"/>
            <a:ext cx="6600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ucinda Powe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PA Chesapeake Bay Program Offic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itizens Advisory Committee Meeting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ovember 21, 2014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523520" y="1080"/>
            <a:ext cx="7086600" cy="15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Century Gothic"/>
              </a:rPr>
              <a:t>Strategic Issue: Phase 6 Decision Support Tools </a:t>
            </a:r>
            <a:r>
              <a:rPr b="1" lang="en-US" sz="1500" spc="-1" strike="noStrike">
                <a:solidFill>
                  <a:srgbClr val="0066cc"/>
                </a:solidFill>
                <a:latin typeface="Century Gothic"/>
              </a:rPr>
              <a:t>http://www.chesapeakebay.net/groups/group/water_quality_goal_implementation_team/wmp_for_the_mpa  </a:t>
            </a:r>
            <a:endParaRPr b="0" lang="en-US" sz="1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446040" y="1730160"/>
            <a:ext cx="31989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nhance decision support tools to improve transparency, accuracy, and confidenc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December 2015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: Draft Phase 6 Watershed Model complete, Partnership review begin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2016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: Partnership review, scenario runs and data inputs incorporated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December 2016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: All models final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5" name="Picture 4" descr=""/>
          <p:cNvPicPr/>
          <p:nvPr/>
        </p:nvPicPr>
        <p:blipFill>
          <a:blip r:embed="rId1"/>
          <a:stretch/>
        </p:blipFill>
        <p:spPr>
          <a:xfrm>
            <a:off x="3657600" y="1716120"/>
            <a:ext cx="54864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89624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entury Gothic"/>
              </a:rPr>
              <a:t>Midpoint Assessment Schedule: Short Term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457200" y="1447920"/>
          <a:ext cx="8458200" cy="510516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4539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117612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and approval of new land use classifications (Oct 201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of proposed land use loading rates (Spring 20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imate change studies conducted by Penn State, UMCES, EPA, and JHU (through 20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94464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and approval of BMP Expert Panels (ongo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l land uses &amp; loading rates into Phase 6 WSM (Oct 20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orporate climate change considerations into Phase 6 (Dec 20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13953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reement on Midpoint Assessment schedule and decision making process (Oct 201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BMPs approved and incorporated into Phase 6 Watershed Model for calibration (Oct 20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ners factor in VA’s James Chlorophyll-a assessment findings; initiate evaluation of changes to allo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113508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udies and monitoring underway for Conowingo Dam/Reser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mes Chlorophyll-a criteria assessment complete (Dec 20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aft Phase 6 watershed model complete; partnership review initiated (Jan 20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8" name=""/>
          <p:cNvGraphicFramePr/>
          <p:nvPr/>
        </p:nvGraphicFramePr>
        <p:xfrm>
          <a:off x="561960" y="1523880"/>
          <a:ext cx="8429760" cy="502920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72072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70668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nership approves Phase 6, other Partnership models (Summer 20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luate progress and attainment of “60% by 2017 goal” (Spring 20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6348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nership decisions on offsetting effects of Conowin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risdictions’ draft Phase III WIPs due (June 20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9507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nership decision on how and when to incorporate responses to climate change assess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risdiction’s final Phase III WIPs due (Dec 20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509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 sets Phase III WIP planning targets for 2025 with partnership in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elopment of 2018-2019 two-year milestones (early 20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123660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 provides expectations for scope of jurisdictions’ Phase III WIPs (June 20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d on Phase III WIPs and Midpoint Assessment, EPA determines whether to modify the Bay TMDL (early 20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96428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entury Gothic"/>
              </a:rPr>
              <a:t>Midpoint Assessment Schedule: Long Term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Text Box 2"/>
          <p:cNvSpPr/>
          <p:nvPr/>
        </p:nvSpPr>
        <p:spPr>
          <a:xfrm>
            <a:off x="3429000" y="2133720"/>
            <a:ext cx="571500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66cc"/>
                </a:solidFill>
                <a:latin typeface="Swis721 Cn BT"/>
              </a:rPr>
              <a:t>Thank you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66cc"/>
                </a:solidFill>
                <a:latin typeface="Swis721 Cn BT"/>
              </a:rPr>
              <a:t>Questions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39068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Century Gothic"/>
              </a:rPr>
              <a:t>What is the Midpoint Assessme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1447560" y="1752120"/>
            <a:ext cx="763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view of progress towards meeting the 2017 60% interim target and 2025 Chesapeake Bay TMDL goal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ptimize implementation of Bay jurisdictions’ WIPs and ensure we’re on track for development of Phase III WIP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ather, review, and incorporate new data and science into the Partnership’s decision support tool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4678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Century Gothic"/>
              </a:rPr>
              <a:t>Midpoint Assessment Guiding Principles</a:t>
            </a:r>
            <a:br>
              <a:rPr sz="32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1523880" y="1501560"/>
            <a:ext cx="746784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99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Continue implementation, tracking progress and reporting results, with stable tools through at least 2017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199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Enhance decision support and assessment tools to enable successful engagement of local partner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199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Incorporate new or refined BMPs and verification of practices into existing accountability tools and reporting protocol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199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Address emerging issues (e.g., climate change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199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Prioritize midpoint assessment actions and use adaptive management to ensure goals are met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543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Century Gothic"/>
              </a:rPr>
              <a:t>Bottom Line for Meeting 2025 Goal</a:t>
            </a:r>
            <a:r>
              <a:rPr b="1" lang="en-US" sz="3600" spc="-1" strike="noStrike">
                <a:solidFill>
                  <a:srgbClr val="0066cc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1447560" y="1662120"/>
            <a:ext cx="7391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nership needs to be able to engage local partners in order to get practices on the ground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midpoint assessment priorities to optimize implementation of WIPs to help achieve 2017 and 2025 goals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anges to modeling inputs and assumptions will allow us to work with key partner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ealthy step in adaptive management proces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Content Placeholder 3" descr="image.jpe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79320" y="5868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Century Gothic"/>
              </a:rPr>
              <a:t>October 2012 WQGIT F2F Meeting &amp; December 2012 PSC Decisi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450720" y="15382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 October 2012, the WQGIT identified and approved specific priorities to address under the midpoint assessment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 December 2012, the PSC approved the midpoint assessment high-level priorities; the guiding principles, and the overall midpoint assessment schedule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Incorporate better model input data from local partners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Revisit model calibration and assumptions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Make CBP models more transparent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Adjust Phase III WIP deadlines to account for 60% by 2017 goal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BMP Panels and enhanced use of monitoring data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4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31B8-1CEA-4A91-A0F0-F2825420BF4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142640" y="76320"/>
            <a:ext cx="80931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entury Gothic"/>
              </a:rPr>
              <a:t>Work Plan Development, Implementation &amp;  Timeline: </a:t>
            </a:r>
            <a:r>
              <a:rPr b="0" lang="en-US" sz="19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http://www.chesapeakebay.net/groups/group/Water_Quality_Goal_Implementation_Team</a:t>
            </a:r>
            <a:r>
              <a:rPr b="1" lang="en-US" sz="19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Picture 4" descr=""/>
          <p:cNvPicPr/>
          <p:nvPr/>
        </p:nvPicPr>
        <p:blipFill>
          <a:blip r:embed="rId2"/>
          <a:srcRect l="3905" t="5207" r="3126" b="11457"/>
          <a:stretch/>
        </p:blipFill>
        <p:spPr>
          <a:xfrm>
            <a:off x="380880" y="1752480"/>
            <a:ext cx="84265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6960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Century Gothic"/>
              </a:rPr>
              <a:t>October 2014 WQGIT F2F Meeting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0666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Clear understanding of where we need to be by 2017 and what steps need to be taken, and by whom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Understand what information is needed from the midpoint assessment to inform evaluation of 60% by 2017 goal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Full buy in on midpoint assessment schedule and decision-making process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91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entury Gothic"/>
              </a:rPr>
              <a:t>Strategic Issues of the Midpoint Assess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ew Land Use Classifications &amp; Loading Rates: Improve the resolution of land uses in the Partnership’s decision support tools, including the relative loading rates of nutrients and sediment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corporate BMP expert panel and workgroup recommendations with a focus on adding BMPs and updating current BMPs to enhance the evaluation of progres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hase 6 Decision Support Tools: Enhance decision support tools to improve transparency, accuracy, and confidence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91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entury Gothic"/>
              </a:rPr>
              <a:t>Strategic Issues of the Midpoint Assess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685800" y="1676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mate Change: Update the Partnership’s decision support tools to reflect climate change considerations. 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nowingo Dam: Factor in the additional nutrient and sediment loads given the Conowingo Dam/ Reservoir have reached dynamic equilibrium and are contributing to Bay water quality impacts. 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James River Chlorophyll-a Criteria Assessment: Determine appropriate criteria in order to protect designated uses in the tidal James River.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PA provides expectations for scope and content of Phase III WIPs based on input from the Partnership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4:56:55Z</dcterms:created>
  <dc:creator>roy jones</dc:creator>
  <dc:description/>
  <dc:language>en-US</dc:language>
  <cp:lastModifiedBy>ACB VA2</cp:lastModifiedBy>
  <cp:lastPrinted>2014-10-02T16:51:23Z</cp:lastPrinted>
  <dcterms:modified xsi:type="dcterms:W3CDTF">2014-11-18T18:35:20Z</dcterms:modified>
  <cp:revision>149</cp:revision>
  <dc:subject/>
  <dc:title>No Slide Title</dc:title>
</cp:coreProperties>
</file>