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wmf" ContentType="image/x-wmf"/>
  <Override PartName="/ppt/media/image7.jpeg" ContentType="image/jpeg"/>
  <Override PartName="/ppt/media/image11.png" ContentType="image/png"/>
  <Override PartName="/ppt/media/image6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65FA1-E07B-4F6D-825C-CFFA8C0B8C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9E3C0-7648-4CED-926F-0FD86DA61AF3}" type="slidenum"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5880" cy="342432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F9D9C-4DE1-4622-8DBC-57D61F752340}" type="slidenum"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7320" cy="342612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1B94B-9A8D-45F9-B454-101366B9E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5D581-59F7-412E-B57D-BDB89C376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46C3E-1E8D-46A7-AB7C-074F47380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2BE58-13FF-4D48-BF30-843AA12E0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AEF61-F61A-45B3-8608-31A2701AE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2C3D1-2B2D-4D7E-8040-DA1809E39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723E0-B46D-44DC-B60B-953D5EE2D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2919E-62B5-463D-981C-4012DD51F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3E684-2477-4718-883B-396B8EC3C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D6035-5575-4026-9170-766D42416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A652D-60BA-4EA5-A973-D8C7BFBAD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C0C1E-926E-4C01-80BC-15511C090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C097B-D421-4ED0-A1B8-22B56CCBC1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s://www.youtube.com/watch?v=z84FTchkTq0" TargetMode="Externa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lowersusquehannariverkeeper.org/" TargetMode="External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Gina pic chickies rock 2-07 008"/>
          <p:cNvPicPr/>
          <p:nvPr/>
        </p:nvPicPr>
        <p:blipFill>
          <a:blip r:embed="rId1"/>
          <a:stretch/>
        </p:blipFill>
        <p:spPr>
          <a:xfrm>
            <a:off x="-3146400" y="-2057400"/>
            <a:ext cx="15239880" cy="11430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320" y="149040"/>
            <a:ext cx="9144000" cy="32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Lower Susquehanna </a:t>
            </a:r>
            <a:r>
              <a:rPr b="0" lang="en-US" sz="4800" spc="-1" strike="noStrike">
                <a:solidFill>
                  <a:srgbClr val="ffffff"/>
                </a:solidFill>
                <a:latin typeface="TheSerif B6 SemiBold"/>
              </a:rPr>
              <a:t>RIVERKEEPER®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and </a:t>
            </a:r>
            <a:br>
              <a:rPr sz="4800"/>
            </a:b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Lower Susquehanna Riverkeeper Associ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2971800"/>
            <a:ext cx="64008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nforc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dvocac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tewardshi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du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Susquehanna_flood_21sep04"/>
          <p:cNvPicPr/>
          <p:nvPr/>
        </p:nvPicPr>
        <p:blipFill>
          <a:blip r:embed="rId1"/>
          <a:stretch/>
        </p:blipFill>
        <p:spPr>
          <a:xfrm>
            <a:off x="152280" y="685800"/>
            <a:ext cx="8839440" cy="6148440"/>
          </a:xfrm>
          <a:prstGeom prst="rect">
            <a:avLst/>
          </a:prstGeom>
          <a:ln w="0">
            <a:noFill/>
          </a:ln>
        </p:spPr>
      </p:pic>
      <p:sp>
        <p:nvSpPr>
          <p:cNvPr id="71" name="Text Box 3"/>
          <p:cNvSpPr/>
          <p:nvPr/>
        </p:nvSpPr>
        <p:spPr>
          <a:xfrm>
            <a:off x="1990800" y="914400"/>
            <a:ext cx="260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usquehanna Riv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Line 4"/>
          <p:cNvSpPr/>
          <p:nvPr/>
        </p:nvSpPr>
        <p:spPr>
          <a:xfrm flipH="1">
            <a:off x="4187880" y="1371600"/>
            <a:ext cx="271440" cy="609480"/>
          </a:xfrm>
          <a:prstGeom prst="line">
            <a:avLst/>
          </a:prstGeom>
          <a:ln cap="sq" w="22320">
            <a:solidFill>
              <a:srgbClr val="ffff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Text Box 5"/>
          <p:cNvSpPr/>
          <p:nvPr/>
        </p:nvSpPr>
        <p:spPr>
          <a:xfrm>
            <a:off x="1523880" y="464832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Bay Bridg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Line 6"/>
          <p:cNvSpPr/>
          <p:nvPr/>
        </p:nvSpPr>
        <p:spPr>
          <a:xfrm flipV="1">
            <a:off x="3063960" y="4230360"/>
            <a:ext cx="609480" cy="685800"/>
          </a:xfrm>
          <a:prstGeom prst="line">
            <a:avLst/>
          </a:prstGeom>
          <a:ln cap="sq" w="22320">
            <a:solidFill>
              <a:srgbClr val="ffff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Text Box 7"/>
          <p:cNvSpPr/>
          <p:nvPr/>
        </p:nvSpPr>
        <p:spPr>
          <a:xfrm>
            <a:off x="2514600" y="90360"/>
            <a:ext cx="504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Hurricane Ivan – September 200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Image result for conowingo dam tropical storm lee"/>
          <p:cNvPicPr/>
          <p:nvPr/>
        </p:nvPicPr>
        <p:blipFill>
          <a:blip r:embed="rId1"/>
          <a:stretch/>
        </p:blipFill>
        <p:spPr>
          <a:xfrm>
            <a:off x="-468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TextBox 1"/>
          <p:cNvSpPr/>
          <p:nvPr/>
        </p:nvSpPr>
        <p:spPr>
          <a:xfrm>
            <a:off x="7175520" y="6019920"/>
            <a:ext cx="177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Conowingo Cli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Image result for tropical storm lee chesapeake bay"/>
          <p:cNvPicPr/>
          <p:nvPr/>
        </p:nvPicPr>
        <p:blipFill>
          <a:blip r:embed="rId1"/>
          <a:stretch/>
        </p:blipFill>
        <p:spPr>
          <a:xfrm>
            <a:off x="0" y="76320"/>
            <a:ext cx="9144000" cy="6781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380880" y="4190760"/>
            <a:ext cx="822960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STANDING BETWEEN POLLUTERS AND OUR RIVER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www.LowerSusquehannaRiverkeeper.or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LowSusRiver@hotmail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C:\Users\Owner\Pictures\LSR_id_final.png"/>
          <p:cNvPicPr/>
          <p:nvPr/>
        </p:nvPicPr>
        <p:blipFill>
          <a:blip r:embed="rId2"/>
          <a:stretch/>
        </p:blipFill>
        <p:spPr>
          <a:xfrm>
            <a:off x="1028880" y="609480"/>
            <a:ext cx="6933960" cy="324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" descr="Image result for lower susquehanna river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TextBox 5"/>
          <p:cNvSpPr/>
          <p:nvPr/>
        </p:nvSpPr>
        <p:spPr>
          <a:xfrm>
            <a:off x="2819520" y="533520"/>
            <a:ext cx="441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owingo Dam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Content Placeholder 4" descr=""/>
          <p:cNvPicPr/>
          <p:nvPr/>
        </p:nvPicPr>
        <p:blipFill>
          <a:blip r:embed="rId1"/>
          <a:stretch/>
        </p:blipFill>
        <p:spPr>
          <a:xfrm>
            <a:off x="12600" y="0"/>
            <a:ext cx="9131400" cy="695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lowWest – Review of LSRW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rpose of Expert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view modeling analyses performed for the LSWR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sure that the appropriate input data and assumptions were u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fer professional opinions on additional or revised modeling analyses that should have been perform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lusions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SRWA depended on a “daisy chain” of models that passed outputs successively from one model to ano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dicted sediment quantities were lower than the best available estimates or actual measured data sugges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derrepresentation of potential sediment impacts (and in turn likely nutrient impacts) on the Chesapeake Ba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95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SRWA Review </a:t>
            </a:r>
            <a:br>
              <a:rPr sz="44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ul Frank – FlowW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2"/>
          <p:cNvSpPr/>
          <p:nvPr/>
        </p:nvSpPr>
        <p:spPr>
          <a:xfrm>
            <a:off x="685800" y="1616040"/>
            <a:ext cx="12830040" cy="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Picture 1" descr=""/>
          <p:cNvPicPr/>
          <p:nvPr/>
        </p:nvPicPr>
        <p:blipFill>
          <a:blip r:embed="rId1"/>
          <a:stretch/>
        </p:blipFill>
        <p:spPr>
          <a:xfrm>
            <a:off x="914400" y="1666800"/>
            <a:ext cx="7467480" cy="5095800"/>
          </a:xfrm>
          <a:prstGeom prst="rect">
            <a:avLst/>
          </a:prstGeom>
          <a:ln w="0">
            <a:noFill/>
          </a:ln>
        </p:spPr>
      </p:pic>
      <p:sp>
        <p:nvSpPr>
          <p:cNvPr id="61" name="TextBox 4"/>
          <p:cNvSpPr/>
          <p:nvPr/>
        </p:nvSpPr>
        <p:spPr>
          <a:xfrm>
            <a:off x="304920" y="1143000"/>
            <a:ext cx="8534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URE 1: COMPARISON OF CONOWINGO FLOW BASED ON INSTANTANEOUS RECORD, DAILY AVERAGE FLOW RECORD, A 24-HOUR RUNNING AVERAGE, AND STORM AVERAGED FLOW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rge Storm Event Prob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Content Placeholder 3" descr=""/>
          <p:cNvPicPr/>
          <p:nvPr/>
        </p:nvPicPr>
        <p:blipFill>
          <a:blip r:embed="rId1"/>
          <a:stretch/>
        </p:blipFill>
        <p:spPr>
          <a:xfrm>
            <a:off x="762120" y="1417680"/>
            <a:ext cx="7772400" cy="516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mate Change Fact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verage temperature in the Northeast are expected to rise between 2.7 and 3 °F by 2035, between 3.6 and 4.8 °F by 2055, and between 4.7 and 8 °F by 2085, compared with the average temperature in 1971-1999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nual amount of precipitation in the NE is expected to increase between 2-7% in 2041-2070, compared with 1971-2000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nally, the frequency of extreme precipitation is expected to increase by about 10-20% in the Chesapeake Bay watershed by 2041-2070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Content Placeholder 4" descr=""/>
          <p:cNvPicPr/>
          <p:nvPr/>
        </p:nvPicPr>
        <p:blipFill>
          <a:blip r:embed="rId1"/>
          <a:stretch/>
        </p:blipFill>
        <p:spPr>
          <a:xfrm>
            <a:off x="0" y="-33480"/>
            <a:ext cx="9144000" cy="6909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Cono_flood_sed_1"/>
          <p:cNvPicPr/>
          <p:nvPr/>
        </p:nvPicPr>
        <p:blipFill>
          <a:blip r:embed="rId1"/>
          <a:stretch/>
        </p:blipFill>
        <p:spPr>
          <a:xfrm>
            <a:off x="-457200" y="-11160"/>
            <a:ext cx="10210680" cy="6973920"/>
          </a:xfrm>
          <a:prstGeom prst="rect">
            <a:avLst/>
          </a:prstGeom>
          <a:ln w="0">
            <a:noFill/>
          </a:ln>
        </p:spPr>
      </p:pic>
      <p:sp>
        <p:nvSpPr>
          <p:cNvPr id="69" name="Text Box 3"/>
          <p:cNvSpPr/>
          <p:nvPr/>
        </p:nvSpPr>
        <p:spPr>
          <a:xfrm>
            <a:off x="152280" y="6324480"/>
            <a:ext cx="342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99"/>
                </a:solidFill>
                <a:latin typeface="Times New Roman"/>
              </a:rPr>
              <a:t>Wendy McPherson  (USGS) - 9/20/0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8T05:27:13Z</dcterms:created>
  <dc:creator>Low Sus Riverkeeper</dc:creator>
  <dc:description/>
  <cp:keywords/>
  <dc:language>en-US</dc:language>
  <cp:lastModifiedBy>Lower Susquehanna Riverkeeper</cp:lastModifiedBy>
  <dcterms:modified xsi:type="dcterms:W3CDTF">2018-11-30T06:03:07Z</dcterms:modified>
  <cp:revision>112</cp:revision>
  <dc:subject/>
  <dc:title>Lower Susquehanna RIVERKEEPER®  and  Stewards of the Lower Susquehann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0.1.0.5490</vt:lpwstr>
  </property>
</Properties>
</file>