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186A-4D06-4ACF-993D-9BAF10B21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7FF0-FC5C-4CE5-A43E-7CA318F0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4DC-E51B-4A25-8FC4-6D81E708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2F6-71ED-4449-9470-99F7110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524-2DB1-4F50-BFAF-79D5E968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2DA-0815-4C24-90EF-785ED43D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DD9-F4BB-4CDE-ACD0-EDD13543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BB17-EA2B-4D9C-8DF2-D6946AC6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7DF2-93CC-4048-88BF-7349BC2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A8B-7E58-4F8F-8C63-E82CA7D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C03-EC73-41EA-83A0-E26F637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B81-72AB-4C74-8786-30BBFE1E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BBA4-A6FE-4F0E-837A-5509F11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0F0-CB2A-4F5A-814F-35B1A43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8976-EBB6-48EA-A08D-DB0DB2F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3D7A-E7F0-497A-A583-15C220F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91A2-7417-4BDF-985C-B0B3A0B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C42-73A3-4E71-9E74-779BBAE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662D-7FFA-4A1C-9F12-38ED5E52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9F7A-E537-423C-AB4B-F4B8EE6B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0A8D-FB9E-48BF-B429-E11EB4F5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DD2E-8153-46BA-B92C-492E34D7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893D-0D2D-407B-B094-0A20495A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4E78-42A5-4C0D-B8E4-556A6C8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741-1D0B-4EF2-AAC9-081F86A1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45D9-13B0-46CF-B8CC-8F892B2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FA35-619A-417C-939A-8A62DAF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95C2-0A0F-4CDB-9586-53FA52C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CEDB-B432-4DFF-8614-275F794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C09B-898D-4C4D-9875-C18323C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7A18-F27D-49F7-B3C1-61CB8CAD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83BF-D30C-4059-9FAE-86659146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343-C53B-4830-9E5C-8DA73FA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BD3-5C12-4D66-936F-70592EA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550-1521-4F1F-82FA-D6FC6CE8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474-942C-4D59-8707-B708979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C6B-9A86-4C67-88D9-E0788004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FD9-7B61-4B00-98DA-53C1E51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051-B6BF-417D-9E65-706E9B642DB5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CA8F-AC0A-4787-9699-8DB5896871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4139-3852-4837-80D0-9C09B81D20A6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77E0-6077-4715-BC2F-A9037379C63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C9F6-1DEC-4748-9A77-B35CCD13A9B5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8FD1-5594-40EB-8593-16D368D3080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asttool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5C7-3703-406E-8FD7-3783D5281CB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60280"/>
            <a:ext cx="7963200" cy="270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alibri"/>
              </a:rPr>
              <a:t>Chesapeake Bay TMDL </a:t>
            </a:r>
            <a:br>
              <a:rPr sz="2800"/>
            </a:br>
            <a:r>
              <a:rPr b="1" lang="en-US" sz="2800" spc="-1" strike="noStrike">
                <a:solidFill>
                  <a:srgbClr val="dbf5f9"/>
                </a:solidFill>
                <a:latin typeface="Calibri"/>
              </a:rPr>
              <a:t>Watershed Implementation Plan – Phase II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dbf5f9"/>
                </a:solidFill>
                <a:latin typeface="Calibri"/>
              </a:rPr>
              <a:t>James Davis-Martin, Chesapeake Bay TMDL Coordinator</a:t>
            </a:r>
            <a:br>
              <a:rPr sz="2400"/>
            </a:br>
            <a:br>
              <a:rPr sz="2800"/>
            </a:br>
            <a:r>
              <a:rPr b="1" lang="en-US" sz="2000" spc="-1" strike="noStrike">
                <a:solidFill>
                  <a:srgbClr val="dbf5f9"/>
                </a:solidFill>
                <a:latin typeface="Calibri"/>
              </a:rPr>
              <a:t>Citizens Advisory Committee to the Chesapeake Executive Council</a:t>
            </a:r>
            <a:br>
              <a:rPr sz="2400"/>
            </a:br>
            <a:r>
              <a:rPr b="1" lang="en-US" sz="2000" spc="-1" strike="noStrike">
                <a:solidFill>
                  <a:srgbClr val="dbf5f9"/>
                </a:solidFill>
                <a:latin typeface="Calibri"/>
              </a:rPr>
              <a:t>March 1, 2012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3657600" y="1371600"/>
            <a:ext cx="1752480" cy="167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DE1-933E-4D48-A42C-9D5230F1EE7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egmentSheds750k_swcd"/>
          <p:cNvPicPr/>
          <p:nvPr/>
        </p:nvPicPr>
        <p:blipFill>
          <a:blip r:embed="rId1"/>
          <a:srcRect l="11500" t="24239" r="2999" b="3668"/>
          <a:stretch/>
        </p:blipFill>
        <p:spPr>
          <a:xfrm>
            <a:off x="1635120" y="2585880"/>
            <a:ext cx="6330960" cy="4075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295280" y="2495520"/>
            <a:ext cx="723960" cy="26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93680" y="752400"/>
            <a:ext cx="87692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Questions/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46980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Local Deliverables &amp; Deadli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765440"/>
            <a:ext cx="86868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red local deliver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urrent BM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date progress in current mod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nd Use / Land Cov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ork with EPA for use in Phase 6 mod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17/2025 BMP Scen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ategies to implement BMP scen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e nee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l opportunity to submit data – Deadline – 2/01/20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rporation into Final WIP 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D143-3CEE-4F52-B96A-F879D8B37AD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784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Local Goal Loads and Reductions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Text Box 714"/>
          <p:cNvSpPr/>
          <p:nvPr/>
        </p:nvSpPr>
        <p:spPr>
          <a:xfrm>
            <a:off x="1444680" y="5408640"/>
            <a:ext cx="650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Best available model representation of the TM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 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oal Load - Modeled 2009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 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duction Goal / Modeled 2009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06D6-601E-4ADC-BE63-A8FFB4FB56B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92" descr=""/>
          <p:cNvPicPr/>
          <p:nvPr/>
        </p:nvPicPr>
        <p:blipFill>
          <a:blip r:embed="rId1"/>
          <a:stretch/>
        </p:blipFill>
        <p:spPr>
          <a:xfrm>
            <a:off x="100080" y="1744560"/>
            <a:ext cx="89485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6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BMPs and Implementation Goal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FBAD-C499-432B-B553-3417FE1866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30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78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9160" y="1076400"/>
            <a:ext cx="7924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Virginia Assessment and Scenario Tool (VAST)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9640" y="1653840"/>
            <a:ext cx="859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VastTool.or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velop and submit BMP implementation scena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urrent progr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25 Local implementation scen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stimate loads from implementation scena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 redu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et local targ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stent with 5.3.2.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ll be modified as changes are made to the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ort Land Use da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orting implementation progress in the futur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cal milestone development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A7E-40C9-43E8-B95E-1829BF2390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6135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800"/>
            </a:b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Technical Assistance and Funding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84104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nts totaling $200,000 to localities, PDCs and SWCDs for plan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ircuit Rider – Center for Watershed Prot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chnical Consulting – TetraTe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CR Engagement Te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keholder Assista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llaborative workshops with PDC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95FE-2225-40BC-AD0F-02641879777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Local Data Collection Resul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82F-5DF7-480E-95E7-124B9721ADF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3187800"/>
          <a:ext cx="8377200" cy="650880"/>
        </p:xfrm>
        <a:graphic>
          <a:graphicData uri="http://schemas.openxmlformats.org/drawingml/2006/table">
            <a:tbl>
              <a:tblPr/>
              <a:tblGrid>
                <a:gridCol w="8377200"/>
              </a:tblGrid>
              <a:tr h="65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mary of Locality Data Submissions by Delive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42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78000" y="3825720"/>
          <a:ext cx="8385120" cy="2470320"/>
        </p:xfrm>
        <a:graphic>
          <a:graphicData uri="http://schemas.openxmlformats.org/drawingml/2006/table">
            <a:tbl>
              <a:tblPr/>
              <a:tblGrid>
                <a:gridCol w="1396800"/>
                <a:gridCol w="1398600"/>
                <a:gridCol w="1397160"/>
                <a:gridCol w="1396800"/>
                <a:gridCol w="1398600"/>
                <a:gridCol w="1397160"/>
              </a:tblGrid>
              <a:tr h="632160">
                <a:tc>
                  <a:txBody>
                    <a:bodyPr lIns="54720" rIns="54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72840">
                <a:tc>
                  <a:txBody>
                    <a:bodyPr lIns="54720" rIns="54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ve - w/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54720" rIns="54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ve - No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54720" rIns="54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7"/>
          <p:cNvSpPr/>
          <p:nvPr/>
        </p:nvSpPr>
        <p:spPr>
          <a:xfrm>
            <a:off x="393840" y="1987560"/>
            <a:ext cx="84074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ived data submissions from 95 percent of Bay loc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9.5% of watershed lan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Federal Facilities Respon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891-5F85-4D3E-A789-3472DB4CA86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44600" y="2133720"/>
            <a:ext cx="803916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7 million acres of Federal Lands in Virginia’s Bay Watershed (12.3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 Federal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9% of Federal Departments resp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se responding hold approximately 90% of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nd us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taloging existing B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w 2025 implementation scenarios or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F11-9971-4FA5-98D1-DD55ED7787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44600" y="2133720"/>
            <a:ext cx="8039160" cy="48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h 15 – Stakeholder Advisor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h 30 – Document submission to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h 30 – May 31 – Public com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ed engagement of local and feder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k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estone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11:49Z</dcterms:created>
  <dc:creator>Russell W Baxter</dc:creator>
  <dc:description/>
  <dc:language>en-US</dc:language>
  <cp:lastModifiedBy>Davis-Martin, James (DCR)</cp:lastModifiedBy>
  <dcterms:modified xsi:type="dcterms:W3CDTF">2012-02-29T19:02:38Z</dcterms:modified>
  <cp:revision>461</cp:revision>
  <dc:subject/>
  <dc:title>Virginia’s Watershed Implementation Plan</dc:title>
</cp:coreProperties>
</file>