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F88-103E-4FE1-B12B-414878D3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095-642E-4BA2-BE70-1F5525F9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A4D-9A43-49D0-BCB5-BEEA7C63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31F-1F79-49F0-8D39-E1169F4C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024-49DC-477D-B9DC-CA5AC27A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59C-0CD1-451D-A5D4-C7E6345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936-4D6D-4371-B448-7E34DE1B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556-4C61-4825-B4FE-BF3885C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C7B-483B-46DE-BA32-2004E3F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28D-BE34-418A-BE66-61CA342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F6F-9C92-4C7A-B358-0BECDDB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E2C-1DDC-4D48-B400-1754ADA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9E8D-4802-4169-9230-4A8EC26691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cey Wetz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sapeake Bay T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Tim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RFP to be released 5/3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Outreach and hold regional webinar-June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application deadline 08/0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letters to applicants - late October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projects  being 11/01/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P release for competitive bid process for service provider to support a regional training initiative-December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Training Initiative – April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e Mid-Atlantic EE Workgroup - October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award project reports due 11/01/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of sub-award project reports and evaluation survey - December 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report to EPA 04/01/20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Formal Educator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4173480"/>
                <a:gridCol w="676440"/>
                <a:gridCol w="674640"/>
                <a:gridCol w="676080"/>
                <a:gridCol w="676440"/>
                <a:gridCol w="676080"/>
                <a:gridCol w="6764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'High Priority Needs" for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regional and local environmental iss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how Env. Ed integrates with common core standards, STEM, emerging new science framework/standar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the Issue Investigation, inquiry based, project based pedag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place based education (e.g environment as an integrating context (EI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ining to increase the use of the outdoors to teach school curricul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 of an Environmental Education certification or licensing program for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Non-Formal Educator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219320"/>
          <a:ext cx="8305920" cy="5516280"/>
        </p:xfrm>
        <a:graphic>
          <a:graphicData uri="http://schemas.openxmlformats.org/drawingml/2006/table">
            <a:tbl>
              <a:tblPr/>
              <a:tblGrid>
                <a:gridCol w="4211640"/>
                <a:gridCol w="682920"/>
                <a:gridCol w="682560"/>
                <a:gridCol w="682560"/>
                <a:gridCol w="681120"/>
                <a:gridCol w="682560"/>
                <a:gridCol w="68256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or Non-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regional and local environmental iss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of how EE can support common core, STEM, emerging new science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Issue Investigation, inquiry based, project based pedag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understanding and use of place based education. E.g. Environment as an integrating context (EI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/expansion of an Environmental Education certification or licensing program for non-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guidance counselors understanding of green career opportun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competence to work with special needs stu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increase competence to work with under served stud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EE Program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90720"/>
          <a:ext cx="8686800" cy="5608440"/>
        </p:xfrm>
        <a:graphic>
          <a:graphicData uri="http://schemas.openxmlformats.org/drawingml/2006/table">
            <a:tbl>
              <a:tblPr/>
              <a:tblGrid>
                <a:gridCol w="4954680"/>
                <a:gridCol w="627120"/>
                <a:gridCol w="620640"/>
                <a:gridCol w="619200"/>
                <a:gridCol w="620640"/>
                <a:gridCol w="623880"/>
                <a:gridCol w="6206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or strengthening and supporting high quality environmental education programs in schools and school sys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acity building training for EE organizations (ex. improved ability to fund raise, conduct stronger program evalu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meetings and workshop opportunities to foster communication across school divisions, and/or sta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roved infrastructure to increase communication and collaboration among EE profession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roved infrastructure to increase communication and collaboration among EE professionals and formal edu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reach and training with nontraditional EE partners (such as community groups, master gardeners etc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collaboration with non-educational organizations (ex. watershed/environmental organizati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 of the link between EE and student achiev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re valuable and accessible information about available outdoor programs at the local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partnerships, collaboration with higher education to connect students/teachers with authentic resear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-15264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 School Grounds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066680"/>
          <a:ext cx="8686800" cy="5639040"/>
        </p:xfrm>
        <a:graphic>
          <a:graphicData uri="http://schemas.openxmlformats.org/drawingml/2006/table">
            <a:tbl>
              <a:tblPr/>
              <a:tblGrid>
                <a:gridCol w="4954680"/>
                <a:gridCol w="625320"/>
                <a:gridCol w="622440"/>
                <a:gridCol w="619200"/>
                <a:gridCol w="622080"/>
                <a:gridCol w="620640"/>
                <a:gridCol w="622440"/>
              </a:tblGrid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that would increase the ability of formal and non formal educators to support the greening of school grounds, facilities, operations and lear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, adopt or enhance an environmental certification program for schoo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 the number of centers/networks to support school greening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access to information on green school tools avail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ining for teachers, administrators, facilities managers to support US Department of Education Green Ribbon school attai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elopment/enhancement of programs and protocols to support wide spread adoption of schoolyard habit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collaboration between schools, school systems and environmental sustainability and green building non-profit organizations. (e.g. Green Building Alliance, US Green Building Council, Farm to School programs, food and nutrition groups, etc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view or analysis of opportunities to integrate green facilities construction/upgrades with curriculum and student experien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EPA Region 3 Sub-Award Updat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695840"/>
                <a:gridCol w="588960"/>
                <a:gridCol w="588960"/>
                <a:gridCol w="588960"/>
                <a:gridCol w="588960"/>
                <a:gridCol w="588960"/>
                <a:gridCol w="588960"/>
              </a:tblGrid>
              <a:tr h="112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X) indicates top 2 "High Priority Needs" from the overall major catego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al and Non Formal Educator Professional Develop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acity Building and Networ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Opportunities for Student Outdoor Lear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anded School Greening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234"/>
          <p:cNvSpPr/>
          <p:nvPr/>
        </p:nvSpPr>
        <p:spPr>
          <a:xfrm>
            <a:off x="1066680" y="8380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Needs Prioritization Outcomes- Overall Categ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4:57:56Z</dcterms:created>
  <dc:creator>kwetzel</dc:creator>
  <dc:description/>
  <dc:language>en-US</dc:language>
  <cp:lastModifiedBy>sbrzezinski</cp:lastModifiedBy>
  <dcterms:modified xsi:type="dcterms:W3CDTF">2012-06-12T20:01:52Z</dcterms:modified>
  <cp:revision>15</cp:revision>
  <dc:subject/>
  <dc:title>EPA Region 3 Sub-Award Update</dc:title>
</cp:coreProperties>
</file>