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C0B-08EF-4E32-909B-564120E4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3C3-F11D-4668-8937-3CF9D493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goals were solidified in the Meaningful Watershed Experience Keystone Commit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very brief reference to NOAA/CBT evaluation efforts and the recent NELA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790C-A0E3-4DE6-B753-6EDDBB50E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79FF-30D1-48CA-96D3-784054852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7AFF-BB9A-47FF-BD47-FE7FA8B1C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E3F5-74E9-4606-BF7F-F933E9474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FC6A-A206-43B7-896A-2BDA64DDE5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558B-4C80-4A42-98BC-8B41C1852A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C274-FE2D-4A05-9209-A99669706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953F-2866-4B65-B9BF-D27F457E7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5114-577D-4157-8070-EA83037DE1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8808-5824-48F9-93CB-DAD804464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3AD6-E897-432E-B815-E18E96D4C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551D-7E02-4DCA-8E97-1CFF3631B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B250-536C-4569-B27C-013249E162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88C1-A80A-4115-BDB8-E4D059FD4C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3DE8-9FF7-41D2-B067-D82D9229A0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9E01-0914-4848-98E7-4B6501A80E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BB06-4AB2-409E-B9E5-4DD96EC72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8182-50D9-416B-B008-9B442712F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FC80-961C-40A4-BCDA-9A843F93C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FF17-52EA-4030-8DBB-A3C0489CA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447D-228C-49EE-9059-91B224B6F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A86BA-00C3-4DBA-89DF-C770E612C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DF31-0000-4BD1-9372-6134BACB9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E662-9F43-4485-97E4-6CFA74628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states"/>
          <p:cNvPicPr/>
          <p:nvPr/>
        </p:nvPicPr>
        <p:blipFill>
          <a:blip r:embed="rId2"/>
          <a:stretch/>
        </p:blipFill>
        <p:spPr>
          <a:xfrm>
            <a:off x="4800600" y="1066680"/>
            <a:ext cx="4343400" cy="5791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9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6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BF0-4515-4A4C-86B1-C920DA1D7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07c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d07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d07c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d07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states"/>
          <p:cNvPicPr/>
          <p:nvPr/>
        </p:nvPicPr>
        <p:blipFill>
          <a:blip r:embed="rId2"/>
          <a:stretch/>
        </p:blipFill>
        <p:spPr>
          <a:xfrm>
            <a:off x="4572000" y="76212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d07c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d07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d07c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d07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0E3D-2025-47BE-9DA4-DB0CB4EDD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8B74-073E-4B9F-A1A1-A710623EA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38120" y="16761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Literacy Best Practices and Metrics Workshop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 27-2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apolis, MD</a:t>
            </a:r>
            <a:br>
              <a:rPr sz="32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G:\Photo GALLERY2\Education\DAVID HARP PHOTOS\DWH080807__114.jpg"/>
          <p:cNvPicPr/>
          <p:nvPr/>
        </p:nvPicPr>
        <p:blipFill>
          <a:blip r:embed="rId1"/>
          <a:stretch/>
        </p:blipFill>
        <p:spPr>
          <a:xfrm>
            <a:off x="711360" y="1066680"/>
            <a:ext cx="3181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7EA-DFE3-4165-A68E-904D79D0C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WEE “Bes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04920" y="1447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2K Keystone “MWEE”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64796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Box 8"/>
          <p:cNvSpPr/>
          <p:nvPr/>
        </p:nvSpPr>
        <p:spPr>
          <a:xfrm>
            <a:off x="5715000" y="2133720"/>
            <a:ext cx="3124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with the class of 2005, provide a meaningful Bay or stream outdoor experience for every school student in the watershed before graduation from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EE defined in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tracking bega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CF6C-1802-4762-AE77-668328E10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5334120" y="1981080"/>
            <a:ext cx="335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not done in uniform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ield experience is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d that one field experience can’t be only indicator for increased  steward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evaluation of stewardship levels cost prohibitive but is being done at national scale (NEL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xportedChart.jpg"/>
          <p:cNvPicPr/>
          <p:nvPr/>
        </p:nvPicPr>
        <p:blipFill>
          <a:blip r:embed="rId1"/>
          <a:stretch/>
        </p:blipFill>
        <p:spPr>
          <a:xfrm>
            <a:off x="152280" y="1828800"/>
            <a:ext cx="4927680" cy="3695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600200" y="2286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itor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A687-1DE1-4144-B469-8B466315B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5800" y="160020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ymposium on environmental education best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session with states to integrate proceedings with implementation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07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ractices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ducation metrics fo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track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d07c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752480" y="152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ho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04:28Z</dcterms:created>
  <dc:creator>CBPO Staff</dc:creator>
  <dc:description/>
  <dc:language>en-US</dc:language>
  <cp:lastModifiedBy>sbrzezinski</cp:lastModifiedBy>
  <dcterms:modified xsi:type="dcterms:W3CDTF">2012-06-05T15:31:37Z</dcterms:modified>
  <cp:revision>81</cp:revision>
  <dc:subject/>
  <dc:title>Executive Order 13508 Final Strategy Overview</dc:title>
</cp:coreProperties>
</file>