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0C9-67D7-45E2-8F99-11119503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1A8-ACCE-4D2B-AA9B-5DC4A87F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B24-5127-4F98-A0D7-6BF69557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685-C89A-4292-8082-D325B2AE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3A72-47CA-4316-9AE2-C62C4CAC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D1FA-4FCC-43DB-9662-826C9E1A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9316-FF62-45C3-A468-F83C56F7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A240-CBC5-492B-A401-45007BCE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5375-B378-4F07-8F03-FBB31440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F490-DE8B-44A9-82CA-AA3E5D80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3CC4-39E2-47E3-903A-FC24B788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866-6D73-431E-8378-E613C702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ADB2-A7B1-4FF1-B995-94AA493B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C0C0-5478-4E89-BD52-BDAA8623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ACF-C63A-4824-A18E-D862ABCB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0F17-579B-4275-B4B7-542720A8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BF6A-E857-4875-8BDF-3FA1AFE2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C52E-E47E-4511-9E8E-56AE21CF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6624-67C9-4A46-8878-8C83AF51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403A-23AC-4848-B326-461419FD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7CCD-74D2-400E-B20F-478273ED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F366-526B-43B9-8EEC-93337742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BA3-CD8C-484A-8B3E-6C05AEF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C9AB-576D-4564-B598-B1957D2F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9CF2-0019-4520-8330-A27A3EAC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9D23-CBA8-4B80-996F-577CDC2F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37D5-C3F3-4F95-868F-D0C08967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774B-4D1F-4AC9-8E74-5481ECC3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0003-4F60-42B9-B124-49F4AB00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F576-D68C-4DE7-A6C0-8AFA5617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96D5-E82D-4840-8EB4-33A916E6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029D-635B-473E-813E-6536C6EA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4F84E-25B2-42CF-B4C0-79CD6CCE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080-95BB-4D7A-AA78-DDA0F98A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A825F-14E4-4159-8F24-A5DD14D5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182E-55EB-4D8F-8E0D-1CB96E13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DC3FF-6302-4A23-9B1B-13BAC569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398F-5C29-4B17-AFA2-9343BA81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CAB61-4EA3-40EA-88B8-FBEFDD55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7D14-937B-4947-9CC7-0A4E6F95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56A8-31DD-4CC5-A5E8-6DB12620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EF441-86C5-4765-9569-A4AEA749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F304-D186-49F5-9189-BBC68A4B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97C-7C38-480A-87C1-A20BF93C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7DF-9282-4B1E-92E2-2B9B91B8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100-E9BB-4A38-8A10-C4E28611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AEE-938F-4B14-A4FB-F76710CC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B0E-8BFD-4234-AE5A-A56D2BF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D1127-CA2A-4168-A22B-9BF98DC281EE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14F05-A71C-4222-9D75-95C0813B85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2AB0A-2E8A-4BE1-92C4-96AD121E650F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CAD06-B463-4FF0-8351-65F92C3F99E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28FFF-D653-4BA5-843B-A0BDE15E6D72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6B4FF-07A1-4329-A19F-E5EFF448DFF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F150A-03E2-4107-A019-C3F85704A0BE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97D0C-4067-41E2-BE8D-FF41363929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5808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025520"/>
            <a:ext cx="7854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ne Hairston-Stra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D DNR Forest Servi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erall Project Compon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er nutrients and sedimen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ree plant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ffer restor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ffer monitoring (10 year result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ndowner outreach- priority watersheds, absentee foc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tter roads-cleaner streams- workshop on better design and maintenance for dirt and gravel roa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eping healthy forests as part of reasonable assurance that TMDL goals are me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enerating forests supported by forest management plans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tter planning knowledge for forest health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Keeping the forest: forest conservation from interested landown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ryland 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duce nutrient and sediment loads through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iparian forest buffers (10+ miles/ 120 acres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ree planting (75 acres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ommunity tree planting/Backyard Buffers (500 Backyard Buffer trees, 30 community trees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raining on unpaved road maintenance (2 workshops, 1 demo site with  the Penn State Center for Dirt and Gravel Roads and The Nature Conservancy)  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upport goals for healthy forests and better restoration by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ong-term buffer monitoring (20 sites)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orest Stewardship Plans (40 plans, estimated 600+ acres)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Greater information to landowners on conservation or easement programs (10+ referrals)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rial for restoration techniques following hemlock woolly adelgid infestations (120 trees planted), an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ong-term emerald ash borer management plan (MD pilot coordinated with regional efforts, MD Dept. of Agriculture, MD Invasive Species Council)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ryland Progr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iparian Forest Buffers:  192.2 acres and 8.44 miles of riparian forest buffers toward 10 mile go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ther tree planting:  59 acres towards 75 acre goal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012 Backyard Buffers program in Frederick County,  2250 trees to 75 riparian landowne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tter Roads/Cleaner Streams Workshop held May 30/31 for 68+ professionals from local public works staff and land manager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restoration trial for hemlock planting was established to identify effective maintenance approaches for seedling survival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59 Forest Stewardship Plans were developed on 2257 ac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Maryland Emerald Ash Borer Long-term Response Plan was prepared and used to pursue strategie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s Lear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P needs champions- not available Spring 201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kyard Buffer Programs have yielded leads for larger buff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mlock seedlings can survive in adelgid-infested areas for 2 years with 1 Core-Tect tabl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tter road maintenance techniques well-received, need follow-up training/technical assist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veryone thinks of trees as part of reasonable assurance for the TMDL, but it is a fundamental need to conserve as the first and best option for healthy watershe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4:26:12Z</dcterms:created>
  <dc:creator>Anne Strang</dc:creator>
  <dc:description/>
  <cp:keywords/>
  <dc:language>en-US</dc:language>
  <cp:lastModifiedBy>Anne Strang</cp:lastModifiedBy>
  <dcterms:modified xsi:type="dcterms:W3CDTF">2013-06-05T05:04:26Z</dcterms:modified>
  <cp:revision>4</cp:revision>
  <dc:subject/>
  <dc:title>Trees for the TMDL-Potomac</dc:title>
</cp:coreProperties>
</file>