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FAA-60B3-4A36-8B8C-16E83AAE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CF0-DB3A-46C8-BF0B-DB1FC3DC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B6B-0B50-43EB-8883-FFA5C9C9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185-0559-4F0F-A54E-ECCF0F9B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A301-F029-4584-90DF-F7004375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F97F-5E68-4563-AB38-F5B96210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76FC-F8AA-4D73-B28B-6DA36CE6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1290-3A82-40D5-B0FE-B3B04DAE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FD26-2DBE-41F7-978D-593A5B9F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8CA1-197C-47A2-B0A1-030AAC97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D06A-98E0-4A10-8859-D51CFBC4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294C-163A-46F9-9ED8-E13F87FC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C041-4327-4103-A52A-202D7562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510B-10A6-4507-A5E0-D8D500A4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9916-C8D4-4DDA-A193-03481DA2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881A-BA3B-49E9-BB53-9AE88A87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2E83-4F88-4F5C-AAE2-1FF2AF20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14CFC-3BB6-4E17-A462-59F877ED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FFD44-4FC2-4C77-86B0-D9FB8835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1C4D5-54B6-4902-970D-D77D91DE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A74E5-B9D8-4EAC-A565-A78D96AA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804C2-2396-4F17-A13B-7E3D0252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D76D-C198-469E-B345-217D5D73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AF539-C602-4E38-BD22-BB0660F6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2E842-1CFE-445A-81AB-200E4D5C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5F9DE-8FE7-42A9-B66F-5D4C0AF1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29C65-CC85-47DD-9104-C5F4F2C5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84064-B61C-4543-B396-B1FF22F5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4DB00-3091-4B75-B96F-9244C19B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6101F-47D6-4E75-8893-1130F3D2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52251-99E8-4479-A5D1-60C3268D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90578-6DB8-4BBB-8ECA-075C7F94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B1E95-58B6-41A0-92C5-ABE68A03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ED4-033A-480F-817C-E5C3B707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8FA0D-B7DD-488C-8B8F-C7BD28DD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65B83-35FF-4C91-9A45-13C512D3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95326-01DD-405C-8070-4E9769E9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D8F44-19D6-462E-A206-79F80C70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AA2A8-263C-49A3-9309-41163AC1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A21AF-9963-4680-A509-46E429D6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93EBD-9EB3-4974-B015-8FE71B13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5BDD7-AC68-4285-8C65-60A950EB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2BE22-D16B-4CF7-AFBD-3DEB2E95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320AB-90C8-4528-BCF2-DAD0E6D2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7FD-3FAF-4C57-8CE4-A1432EB2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CF80E-AAF0-4762-9641-CCE9E8B8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783AF-B0CA-4DA5-8ECA-AEBFE48B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5B783-ABD9-4837-B2EF-3DA004C6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2AD7D-6A09-4F7A-9E8C-5C41D9DC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C6B36-FD61-4B54-8FB2-F95FB9A3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75298-2360-4C76-AC0A-4C769604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E62A5-E832-4211-8664-1020395E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3D913-8C26-43A3-9A7F-AB5161A6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E5609-0D5A-4B20-9EE5-F222B8CF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06BE8-4717-458D-B59E-D7D98BB7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2629-C78E-412D-A13A-5EA75A60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D3127-2AF4-4AD8-842C-BBF3F18F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BA61-D562-43AC-A64E-2E58AA6E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F90B-A162-4AF5-AD7E-B1475E0E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3FE-803C-4E1B-AB42-153D2961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82f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3691-2371-408A-8615-1F8FDF0B561F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ef920"/>
              </a:buClr>
              <a:buFont typeface="MT Extra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" name="Picture 13" descr="TPC_logo_jpeg"/>
          <p:cNvPicPr/>
          <p:nvPr/>
        </p:nvPicPr>
        <p:blipFill>
          <a:blip r:embed="rId2"/>
          <a:stretch/>
        </p:blipFill>
        <p:spPr>
          <a:xfrm>
            <a:off x="8178840" y="6273720"/>
            <a:ext cx="91440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82f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91D2-C499-4129-90F0-88F41309A082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82f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455F-FD69-419B-BA97-00AA54CBECBD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82f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0547-E8BC-4CB0-BA15-BBAAD446C3A3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82f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73C5-4E9A-4AC8-B713-3BE39E0ADB01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92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ngaging Absentee Landowners in Conserv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4419720"/>
            <a:ext cx="762012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tomac Conserva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Partners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8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tural Resources Conservation Servi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8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udoun and Lord Fairfax SWCDs, 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8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stern Panhandle Conservation District, WV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85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9" name="Picture 5" descr="http://2.bp.blogspot.com/_PGvSoaafXiI/TIaKYRCEUTI/AAAAAAAAIuQ/Gvyx9dZylQc/s1600/maryland-farm-country.jpg"/>
          <p:cNvPicPr/>
          <p:nvPr/>
        </p:nvPicPr>
        <p:blipFill>
          <a:blip r:embed="rId1"/>
          <a:stretch/>
        </p:blipFill>
        <p:spPr>
          <a:xfrm>
            <a:off x="1752480" y="1905120"/>
            <a:ext cx="5562720" cy="247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oals and Objectiv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32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gage at least 500 non-operator landowners in conservation through the services of a Landowner Advis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Content Placeholder 6" descr="priority watersheds and counties_AL project.jpg"/>
          <p:cNvPicPr/>
          <p:nvPr/>
        </p:nvPicPr>
        <p:blipFill>
          <a:blip r:embed="rId1"/>
          <a:srcRect l="6060" t="3919" r="6060" b="3919"/>
          <a:stretch/>
        </p:blipFill>
        <p:spPr>
          <a:xfrm>
            <a:off x="4038480" y="1535040"/>
            <a:ext cx="4876920" cy="39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hy Is This so Cool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76320" y="1494000"/>
            <a:ext cx="335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rge, under-tapped audience that own a lot of l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"/>
          <p:cNvPicPr/>
          <p:nvPr/>
        </p:nvPicPr>
        <p:blipFill>
          <a:blip r:embed="rId1"/>
          <a:srcRect l="17949" t="7395" r="16667" b="0"/>
          <a:stretch/>
        </p:blipFill>
        <p:spPr>
          <a:xfrm>
            <a:off x="3282840" y="1447920"/>
            <a:ext cx="5861160" cy="4495680"/>
          </a:xfrm>
          <a:prstGeom prst="rect">
            <a:avLst/>
          </a:prstGeom>
          <a:ln w="0">
            <a:noFill/>
          </a:ln>
        </p:spPr>
      </p:pic>
      <p:sp>
        <p:nvSpPr>
          <p:cNvPr id="216" name="Oval 9"/>
          <p:cNvSpPr/>
          <p:nvPr/>
        </p:nvSpPr>
        <p:spPr>
          <a:xfrm>
            <a:off x="7467480" y="3505320"/>
            <a:ext cx="457200" cy="685800"/>
          </a:xfrm>
          <a:prstGeom prst="ellipse">
            <a:avLst/>
          </a:pr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ef920"/>
              </a:buClr>
              <a:buFont typeface="MT Extra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04920" y="3429000"/>
          <a:ext cx="2743200" cy="1401840"/>
        </p:xfrm>
        <a:graphic>
          <a:graphicData uri="http://schemas.openxmlformats.org/drawingml/2006/table">
            <a:tbl>
              <a:tblPr/>
              <a:tblGrid>
                <a:gridCol w="1089000"/>
                <a:gridCol w="826920"/>
                <a:gridCol w="827280"/>
              </a:tblGrid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fornian FB"/>
                        </a:rPr>
                        <a:t> </a:t>
                      </a:r>
                      <a:endParaRPr b="1" lang="en-US" sz="1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cd7a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fornian FB"/>
                        </a:rPr>
                        <a:t>Absentee Landowner %</a:t>
                      </a:r>
                      <a:endParaRPr b="1" lang="en-US" sz="12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cd7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fornian FB"/>
                        </a:rPr>
                        <a:t> </a:t>
                      </a:r>
                      <a:endParaRPr b="1" lang="en-US" sz="12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cd7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fornian FB"/>
                        </a:rPr>
                        <a:t>OWNERS</a:t>
                      </a:r>
                      <a:endParaRPr b="1" lang="en-US" sz="12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cd7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fornian FB"/>
                        </a:rPr>
                        <a:t>ACRES</a:t>
                      </a:r>
                      <a:endParaRPr b="1" lang="en-US" sz="12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cd7a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fornian FB"/>
                        </a:rPr>
                        <a:t>Delaware</a:t>
                      </a:r>
                      <a:endParaRPr b="1" lang="en-US" sz="12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cd7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fornian FB"/>
                        </a:rPr>
                        <a:t>32%</a:t>
                      </a:r>
                      <a:endParaRPr b="1" lang="en-US" sz="12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cd7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fornian FB"/>
                        </a:rPr>
                        <a:t>73%</a:t>
                      </a:r>
                      <a:endParaRPr b="1" lang="en-US" sz="12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cd7a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fornian FB"/>
                        </a:rPr>
                        <a:t>Maryland</a:t>
                      </a:r>
                      <a:endParaRPr b="1" lang="en-US" sz="12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cd7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fornian FB"/>
                        </a:rPr>
                        <a:t>51%</a:t>
                      </a:r>
                      <a:endParaRPr b="1" lang="en-US" sz="12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cd7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fornian FB"/>
                        </a:rPr>
                        <a:t>57%</a:t>
                      </a:r>
                      <a:endParaRPr b="1" lang="en-US" sz="12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cd7a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fornian FB"/>
                        </a:rPr>
                        <a:t>Virginia</a:t>
                      </a:r>
                      <a:endParaRPr b="1" lang="en-US" sz="12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cd7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fornian FB"/>
                        </a:rPr>
                        <a:t>42%</a:t>
                      </a:r>
                      <a:endParaRPr b="1" lang="en-US" sz="12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cd7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fornian FB"/>
                        </a:rPr>
                        <a:t>45%</a:t>
                      </a:r>
                      <a:endParaRPr b="1" lang="en-US" sz="12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cd7a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fornian FB"/>
                        </a:rPr>
                        <a:t>Pennsylvania</a:t>
                      </a:r>
                      <a:endParaRPr b="1" lang="en-US" sz="12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cd7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fornian FB"/>
                        </a:rPr>
                        <a:t>44%</a:t>
                      </a:r>
                      <a:endParaRPr b="1" lang="en-US" sz="12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cd7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fornian FB"/>
                        </a:rPr>
                        <a:t>37%</a:t>
                      </a:r>
                      <a:endParaRPr b="1" lang="en-US" sz="12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cd7a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fornian FB"/>
                        </a:rPr>
                        <a:t>West Virginia</a:t>
                      </a:r>
                      <a:endParaRPr b="1" lang="en-US" sz="12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cd7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fornian FB"/>
                        </a:rPr>
                        <a:t>35%</a:t>
                      </a:r>
                      <a:endParaRPr b="1" lang="en-US" sz="12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cd7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fornian FB"/>
                        </a:rPr>
                        <a:t>29%</a:t>
                      </a:r>
                      <a:endParaRPr b="1" lang="en-US" sz="12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cd7a"/>
                    </a:solidFill>
                  </a:tcPr>
                </a:tc>
              </a:tr>
            </a:tbl>
          </a:graphicData>
        </a:graphic>
      </p:graphicFrame>
      <p:sp>
        <p:nvSpPr>
          <p:cNvPr id="218" name="Rectangle 6"/>
          <p:cNvSpPr/>
          <p:nvPr/>
        </p:nvSpPr>
        <p:spPr>
          <a:xfrm>
            <a:off x="304920" y="4952880"/>
            <a:ext cx="2895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Garamond"/>
              </a:rPr>
              <a:t>1997 Census of Agriculture, Agricultural Economics and Land Ownership Survey (1999) </a:t>
            </a:r>
            <a:endParaRPr b="1" lang="en-US" sz="11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sults so Far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than 500 landowners receiving outreach materi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75 landowners expressing interest (15%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7 landowners requesting site assess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veraged FS money to raise additional $386,000 for this eff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1" name="Picture 2" descr="F:\Share\Photos\Restoration\Absentee Landowner outreach\joe_carrie_mike by stream.JPG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halle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ving landowners from interest to 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4" name="Picture 4" descr="F:\Weldon\Absentee Landowners\Materials for Joe\1846.JPG"/>
          <p:cNvPicPr/>
          <p:nvPr/>
        </p:nvPicPr>
        <p:blipFill>
          <a:blip r:embed="rId1"/>
          <a:stretch/>
        </p:blipFill>
        <p:spPr>
          <a:xfrm>
            <a:off x="1538280" y="1981080"/>
            <a:ext cx="6081840" cy="403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1T06:48:14Z</dcterms:created>
  <dc:creator>Wildlife Biologist</dc:creator>
  <dc:description>Revision of 2_98part slide show</dc:description>
  <cp:keywords>Farm Bill Wildlfie Partners satellite broadcast</cp:keywords>
  <dc:language>en-US</dc:language>
  <cp:lastModifiedBy>aimee</cp:lastModifiedBy>
  <cp:lastPrinted>2002-06-24T21:26:29Z</cp:lastPrinted>
  <dcterms:modified xsi:type="dcterms:W3CDTF">2013-06-04T19:27:59Z</dcterms:modified>
  <cp:revision>579</cp:revision>
  <dc:subject>Farm Bill</dc:subject>
  <dc:title>Training Area 1</dc:title>
</cp:coreProperties>
</file>