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D08E-2BEE-4FC1-967C-AE102DBD6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results of survey mon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A67B-6DA8-4952-B34E-814C7D6F7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CD on PSC for this mee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B60E-EDDA-4473-BFE6-EF40B5EE0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55E8-2615-4A6B-B2E9-3D1BA244F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ADCB-7E12-4A07-86C8-C76345D4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ACC3-FFE3-4318-83E3-74505A7EB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3FEF-3FDE-41B2-B064-EDAF701E1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973F-943E-4AF1-8BDA-52B37B26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80BA-AE03-4F46-A69C-830DBA35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8F3B-258D-410E-9BA7-4B45DCAD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6748-D132-4DA0-9283-FE722E5A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AC5D-64F2-415C-9375-40A1691D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B1CA-F235-493B-AD9E-DF3D27A0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6C48-43D3-4D93-A159-25A3C2A7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EAA8-8EDC-43E6-8BAA-68F7E032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AA97-7B28-4D4F-A74F-B9E4AB902B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D723-A480-47A4-A3A9-B6EF639874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hesapeake_Bay_Thunderstor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Proposed Workplan for Completing the Alignment of the Partnersh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Management Board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9/13/1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arin Bisl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179064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ENT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ussion and 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s needed to workpla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mmend forwarding to PSC for approv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ussion of Go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utcome of Discussion – Feedback to the GITs that will help them improve goal stat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 to Guide Discussion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the goals SMART?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cific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urabl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ievable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ults-oriented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e-Boun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there any goals that give you concer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there specific goals that you need more information 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re anything missing that would keep the Program from achieving its miss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5" descr="normal_iil_diagram_chesapeake_restoration_goals_defending_our_national_treasure~0.png"/>
          <p:cNvPicPr/>
          <p:nvPr/>
        </p:nvPicPr>
        <p:blipFill>
          <a:blip r:embed="rId1"/>
          <a:stretch/>
        </p:blipFill>
        <p:spPr>
          <a:xfrm>
            <a:off x="228600" y="228600"/>
            <a:ext cx="837720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aluate C2K and streamlining of commitm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sure a set of shared priorities that fully represents the interests of the Partnership including consideration of emerging issues(e.g. climate chang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rify governance (roles, organization, opera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gn efficient operational structure for collabo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able effective communication of Partnership’s refreshed goals, outcomes and accomplishm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July 11, 2011 the EC agreed to use a four stage process as the path forwar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the same meeting, they agreed to use an adaptive management decision support framewo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raft workplan was developed using these two documents as source mate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ting Goals and 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evelop Decision Support Frame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ITs use framework for at least one goal by March 31,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aining GIT goals through Framework by end of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B discuss and provide feedback to GIT chairs the full array of draft goal beginning in Aug.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visory Committees will provide advice through MB and PSC repres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ting Goals and Outcomes (Con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  PSC (or Action Team) will review new goals/outcomes, review advice from MB and ACs, assess commitments made through EC actions to determine if new Agreement is necessary (March/Apr 2013 retreat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.  Depending on #6, EC announces adoption of goals /new agreement (2013 EC meet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ENT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Govern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Develop survey for MB to initiate discussions on any necessary changes to the structure, operational functions and membership of the M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GIT 6 will analyze resul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GIT Chairs for input (Sept. 20, 201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MB for recommendations to PSC (Oct. 201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PSC for action (Oct/Nov 201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Governance (Con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3.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GIT 6 will develop draft protocol for “including federal, state, and local partners in the development of the new Agreement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MB to recommend to PSC (Nov. 201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PSC for approval (Jan/Feb 2013 mt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70c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Use protocol to determine goals/outcomes of Program and whether a new agreement is necessary (March/April 2013 retre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70c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Governance (Con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Using decision-making body identified in protocol, CBP to “revisit the governance and operations of the Chesapeake Bay Program and Partnership . . . To clarify relationships between previous agreement signatories, other federal agencies, and headwater states, and to formalize the role and relationships with the FLC . . 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EC and FLC approve changes to governance (2013 EC meet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1T18:15:39Z</dcterms:created>
  <dc:creator>cbisland</dc:creator>
  <dc:description/>
  <dc:language>en-US</dc:language>
  <cp:lastModifiedBy>cbisland</cp:lastModifiedBy>
  <dcterms:modified xsi:type="dcterms:W3CDTF">2012-09-12T21:14:48Z</dcterms:modified>
  <cp:revision>35</cp:revision>
  <dc:subject/>
  <dc:title>Slide 1</dc:title>
</cp:coreProperties>
</file>