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F14A-A73A-493C-806B-BCCB2EACF7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542E-10B3-4E21-8B8F-9EB25E45B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C176-159F-47CF-AF09-ED8D5E926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672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2120" y="144756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672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2120" y="3875400"/>
            <a:ext cx="25761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A3F7-C91C-4580-8255-7E2457F44C9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3C166-8E74-4FFF-8F9B-85084438C1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23C2-8401-4F68-A5DA-21C6C35F6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15DEE-D561-477B-9456-52B33937E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11630-A653-404C-B9E0-09C5892BE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402E-DC59-44F3-932E-8A623BD0D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67C3-8C71-440C-B904-E519F9496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3904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87540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1926-6EAE-405E-80A5-E8706A920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447560"/>
            <a:ext cx="39042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875400"/>
            <a:ext cx="8001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53BB1-FFE7-40DF-A8CC-750905F5C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0" y="65527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10AB-223C-4B57-9CD4-BB89E1876F90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752480" y="533520"/>
            <a:ext cx="72392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AV Managemen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19240" y="1523880"/>
            <a:ext cx="5105520" cy="3505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76440" y="54100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itle of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10560" y="220968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e or Gra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4771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6E748-A267-4210-8DB0-3B23FBF167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Vital Habitats Go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tore, enhance and protect a network of land and water habitats to support fish and wildlife, and to afford other public benefits, including water quality, recreational uses and scenic value across the watershed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Submerged Aquatic Vegetation (SAV) Out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ustain and increase the habitat benefits of SAV (underwater grasses) in the Chesapeake Bay. Achieve and sustain the ultimate outcome of 185,000 acres of SAV Bay-wide necessary for a restored Bay. Progress toward this ultimate outcome will be measured against a target of 90,000 acres by 2017 and 130,000 acres by 202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D5FDB-F2A6-43F2-8FBF-67C9BE4544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Importan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Underwater grasses provide significant benefits to aquatic life and serve critical functions in the Chesapeake Bay ecosystem. Underwater grasses add oxygen to the water; improve water clarity by helping suspended sediment settle to the bottom; provide shelter for young striped bass, blue crabs andother species; and reduce shoreline erosion. Increasing the abundance of grasses in the Bay and its rivers will dramatically improve the entire Bay ecosyste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Current Condition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In 2013, there were an estimated 59,927 acres of underwater grasses in the Chesapeake Bay, achieving 32 percent of the 185,000-acre go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How it was Derive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his outcome was derived from the Chesapeake Bay Program’s Submerged Aquatic Vegetation (SAV) Workgroup and is based on the acreage recorded in certain regions during certain high-growth ye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ahoma"/>
              </a:rPr>
              <a:t>Baselin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The baseline was generated from historical SAV abundance in the Chesapeake Ba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DEDA-0B53-40A8-BC94-12408AF268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Participating Jurisdictions, with the exception of DC, it’s all State, Federal or Acade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?  Would any LGAC members like to be SAV workgroup chai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E8FAE-7EBE-4017-9468-F68AA3BD3C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influencing ability to meet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bitat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ater clarity most crit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man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ysical disruption (dredging, fisheries, aquaculture, prop scarring etc), shoreline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search 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tools do local governments need to address these factor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6448-6AB6-4AD8-9412-1640CE3BFB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713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Local Engag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Non-profit groups, such as the Chesapeake Bay Foundation, historically have been involved in implementing local community underwater grass plantings in partnership with schools.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ever, recent shifts in acreage goals have resulted in a decreased focus on implementation, and an increase in research efforts inste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local jurisdictions (Talbot, Baltimore Counties in Maryland for example) have been involved in underwater grass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3402-9628-4B34-83C5-DACF3B3FA8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7:07:48Z</dcterms:created>
  <dc:creator>John Cornell</dc:creator>
  <dc:description/>
  <dc:language>en-US</dc:language>
  <cp:lastModifiedBy>Lee Karrh</cp:lastModifiedBy>
  <cp:lastPrinted>2009-01-16T17:28:04Z</cp:lastPrinted>
  <dcterms:modified xsi:type="dcterms:W3CDTF">2014-12-04T18:36:46Z</dcterms:modified>
  <cp:revision>8</cp:revision>
  <dc:subject/>
  <dc:title>PowerPoint Presentation</dc:title>
</cp:coreProperties>
</file>