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5333-C116-4E96-A57C-17B3FBCEC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F2BD-E214-4EC1-B064-1627BBFED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E65-7E48-45F6-A5BC-1B0A5E61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CB4-C511-4A87-B528-52F03437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F6D-EF86-47E7-9F2F-BEB3CB35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0CE-6275-4DF1-B7DD-7C3E35D6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2C8-2E7C-4812-B189-A249A8C5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ABD-24C3-4278-9726-29506373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6BA-9496-4E96-ABF9-0258C1C6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B38-7528-4EF1-B3B5-FF97B4EA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066-58DC-4ADF-A8FF-28CFA91D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C98-585E-4C73-A029-A826C7F0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DEB-2343-4B17-A254-605DAAF1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8D2-EB02-4AD8-9BFC-BE5AE7F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B654-312D-49FD-A66D-B7586E558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Deciding on the Working Target Loads for the Chesapeake Bay</a:t>
            </a:r>
            <a:endParaRPr b="1" i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Chesapeake Bay Program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Principals’ Staff Committee Meeting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October 23, 2009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Bob Koroncai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SEPA Region III Water Protection Division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Technical analysis by Lewis Linker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ttachment C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DO violations (1993-1995)</a:t>
            </a:r>
            <a:endParaRPr b="1" i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8600" y="879480"/>
            <a:ext cx="7905600" cy="5773680"/>
            <a:chOff x="228600" y="879480"/>
            <a:chExt cx="7905600" cy="5773680"/>
          </a:xfrm>
        </p:grpSpPr>
        <p:sp>
          <p:nvSpPr>
            <p:cNvPr id="74" name=""/>
            <p:cNvSpPr/>
            <p:nvPr/>
          </p:nvSpPr>
          <p:spPr>
            <a:xfrm>
              <a:off x="923760" y="896760"/>
              <a:ext cx="7210440" cy="4721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23760" y="4740120"/>
              <a:ext cx="721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3760" y="3797280"/>
              <a:ext cx="721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3760" y="2843280"/>
              <a:ext cx="721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3760" y="1901880"/>
              <a:ext cx="721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3760" y="960480"/>
              <a:ext cx="721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3760" y="960480"/>
              <a:ext cx="7210440" cy="47210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3760" y="960480"/>
              <a:ext cx="0" cy="472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88840" y="568152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88840" y="474012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88840" y="379728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88840" y="284328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8840" y="190188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88840" y="96048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23760" y="5681520"/>
              <a:ext cx="721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923760" y="5681520"/>
              <a:ext cx="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368440" y="5681520"/>
              <a:ext cx="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813120" y="5681520"/>
              <a:ext cx="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246640" y="5681520"/>
              <a:ext cx="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691320" y="5681520"/>
              <a:ext cx="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134200" y="5681520"/>
              <a:ext cx="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6280" y="1522440"/>
              <a:ext cx="5767200" cy="3217680"/>
            </a:xfrm>
            <a:custGeom>
              <a:avLst/>
              <a:gdLst/>
              <a:ahLst/>
              <a:rect l="l" t="t" r="r" b="b"/>
              <a:pathLst>
                <a:path w="503" h="280">
                  <a:moveTo>
                    <a:pt x="0" y="280"/>
                  </a:moveTo>
                  <a:lnTo>
                    <a:pt x="126" y="280"/>
                  </a:lnTo>
                  <a:lnTo>
                    <a:pt x="252" y="280"/>
                  </a:lnTo>
                  <a:lnTo>
                    <a:pt x="377" y="214"/>
                  </a:lnTo>
                  <a:lnTo>
                    <a:pt x="503" y="0"/>
                  </a:lnTo>
                </a:path>
              </a:pathLst>
            </a:custGeom>
            <a:noFill/>
            <a:ln w="223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46280" y="3797280"/>
              <a:ext cx="5767200" cy="1884240"/>
            </a:xfrm>
            <a:custGeom>
              <a:avLst/>
              <a:gdLst/>
              <a:ahLst/>
              <a:rect l="l" t="t" r="r" b="b"/>
              <a:pathLst>
                <a:path w="503" h="164">
                  <a:moveTo>
                    <a:pt x="0" y="164"/>
                  </a:moveTo>
                  <a:lnTo>
                    <a:pt x="126" y="164"/>
                  </a:lnTo>
                  <a:lnTo>
                    <a:pt x="252" y="164"/>
                  </a:lnTo>
                  <a:lnTo>
                    <a:pt x="377" y="131"/>
                  </a:lnTo>
                  <a:lnTo>
                    <a:pt x="50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46280" y="5475240"/>
              <a:ext cx="460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5320" y="5475240"/>
              <a:ext cx="460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44720" y="5475240"/>
              <a:ext cx="460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93760" y="5475240"/>
              <a:ext cx="4464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1720" y="5475240"/>
              <a:ext cx="4572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0760" y="5475240"/>
              <a:ext cx="460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40160" y="5475240"/>
              <a:ext cx="4572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89200" y="5475240"/>
              <a:ext cx="460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38600" y="5475240"/>
              <a:ext cx="4572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87640" y="5475240"/>
              <a:ext cx="460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37040" y="546408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7"/>
                  </a:moveTo>
                  <a:lnTo>
                    <a:pt x="29" y="0"/>
                  </a:lnTo>
                  <a:lnTo>
                    <a:pt x="36" y="14"/>
                  </a:lnTo>
                  <a:lnTo>
                    <a:pt x="0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86080" y="544032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7"/>
                  </a:moveTo>
                  <a:lnTo>
                    <a:pt x="29" y="0"/>
                  </a:lnTo>
                  <a:lnTo>
                    <a:pt x="29" y="22"/>
                  </a:lnTo>
                  <a:lnTo>
                    <a:pt x="0" y="2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35480" y="5429160"/>
              <a:ext cx="44280" cy="3492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0"/>
                  </a:moveTo>
                  <a:lnTo>
                    <a:pt x="28" y="0"/>
                  </a:lnTo>
                  <a:lnTo>
                    <a:pt x="28" y="14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83080" y="540540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8"/>
                  </a:moveTo>
                  <a:lnTo>
                    <a:pt x="29" y="0"/>
                  </a:lnTo>
                  <a:lnTo>
                    <a:pt x="29" y="15"/>
                  </a:lnTo>
                  <a:lnTo>
                    <a:pt x="0" y="2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32120" y="538308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7"/>
                  </a:moveTo>
                  <a:lnTo>
                    <a:pt x="29" y="0"/>
                  </a:lnTo>
                  <a:lnTo>
                    <a:pt x="29" y="22"/>
                  </a:lnTo>
                  <a:lnTo>
                    <a:pt x="0" y="2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1520" y="5371920"/>
              <a:ext cx="46080" cy="334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29" y="0"/>
                  </a:lnTo>
                  <a:lnTo>
                    <a:pt x="29" y="14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19400" y="534816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8"/>
                  </a:moveTo>
                  <a:lnTo>
                    <a:pt x="36" y="0"/>
                  </a:lnTo>
                  <a:lnTo>
                    <a:pt x="36" y="15"/>
                  </a:lnTo>
                  <a:lnTo>
                    <a:pt x="7" y="2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68800" y="532584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7"/>
                  </a:moveTo>
                  <a:lnTo>
                    <a:pt x="36" y="0"/>
                  </a:lnTo>
                  <a:lnTo>
                    <a:pt x="36" y="22"/>
                  </a:lnTo>
                  <a:lnTo>
                    <a:pt x="7" y="2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17840" y="5315040"/>
              <a:ext cx="57240" cy="2196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0"/>
                  </a:moveTo>
                  <a:lnTo>
                    <a:pt x="36" y="0"/>
                  </a:lnTo>
                  <a:lnTo>
                    <a:pt x="36" y="14"/>
                  </a:lnTo>
                  <a:lnTo>
                    <a:pt x="7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67240" y="529092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7"/>
                  </a:moveTo>
                  <a:lnTo>
                    <a:pt x="28" y="0"/>
                  </a:lnTo>
                  <a:lnTo>
                    <a:pt x="36" y="15"/>
                  </a:lnTo>
                  <a:lnTo>
                    <a:pt x="0" y="2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14840" y="526896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0" y="7"/>
                  </a:moveTo>
                  <a:lnTo>
                    <a:pt x="29" y="0"/>
                  </a:lnTo>
                  <a:lnTo>
                    <a:pt x="37" y="14"/>
                  </a:lnTo>
                  <a:lnTo>
                    <a:pt x="0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64240" y="5256000"/>
              <a:ext cx="56880" cy="2412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0"/>
                  </a:moveTo>
                  <a:lnTo>
                    <a:pt x="29" y="0"/>
                  </a:lnTo>
                  <a:lnTo>
                    <a:pt x="36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13280" y="523404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0"/>
                  </a:moveTo>
                  <a:lnTo>
                    <a:pt x="29" y="0"/>
                  </a:lnTo>
                  <a:lnTo>
                    <a:pt x="29" y="14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62680" y="521028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8"/>
                  </a:moveTo>
                  <a:lnTo>
                    <a:pt x="29" y="0"/>
                  </a:lnTo>
                  <a:lnTo>
                    <a:pt x="29" y="15"/>
                  </a:lnTo>
                  <a:lnTo>
                    <a:pt x="0" y="2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1720" y="5199120"/>
              <a:ext cx="4608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61120" y="5176800"/>
              <a:ext cx="46080" cy="334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29" y="0"/>
                  </a:lnTo>
                  <a:lnTo>
                    <a:pt x="29" y="14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10160" y="515304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7"/>
                  </a:moveTo>
                  <a:lnTo>
                    <a:pt x="29" y="0"/>
                  </a:lnTo>
                  <a:lnTo>
                    <a:pt x="29" y="15"/>
                  </a:lnTo>
                  <a:lnTo>
                    <a:pt x="0" y="2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59560" y="5141880"/>
              <a:ext cx="442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96000" y="511956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0"/>
                  </a:moveTo>
                  <a:lnTo>
                    <a:pt x="36" y="0"/>
                  </a:lnTo>
                  <a:lnTo>
                    <a:pt x="36" y="14"/>
                  </a:lnTo>
                  <a:lnTo>
                    <a:pt x="7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45040" y="5095800"/>
              <a:ext cx="2412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7"/>
                  </a:moveTo>
                  <a:lnTo>
                    <a:pt x="15" y="0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56200" y="508464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4"/>
                  </a:moveTo>
                  <a:lnTo>
                    <a:pt x="22" y="0"/>
                  </a:lnTo>
                  <a:lnTo>
                    <a:pt x="29" y="14"/>
                  </a:lnTo>
                  <a:lnTo>
                    <a:pt x="15" y="2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59520" y="4992480"/>
              <a:ext cx="572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2"/>
                  </a:moveTo>
                  <a:lnTo>
                    <a:pt x="29" y="0"/>
                  </a:lnTo>
                  <a:lnTo>
                    <a:pt x="36" y="14"/>
                  </a:lnTo>
                  <a:lnTo>
                    <a:pt x="15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86600" y="49006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2"/>
                  </a:moveTo>
                  <a:lnTo>
                    <a:pt x="21" y="0"/>
                  </a:lnTo>
                  <a:lnTo>
                    <a:pt x="29" y="15"/>
                  </a:lnTo>
                  <a:lnTo>
                    <a:pt x="7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00720" y="4808520"/>
              <a:ext cx="572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2"/>
                  </a:moveTo>
                  <a:lnTo>
                    <a:pt x="22" y="0"/>
                  </a:lnTo>
                  <a:lnTo>
                    <a:pt x="36" y="15"/>
                  </a:lnTo>
                  <a:lnTo>
                    <a:pt x="7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15200" y="4716360"/>
              <a:ext cx="5688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2"/>
                  </a:moveTo>
                  <a:lnTo>
                    <a:pt x="22" y="0"/>
                  </a:lnTo>
                  <a:lnTo>
                    <a:pt x="36" y="15"/>
                  </a:lnTo>
                  <a:lnTo>
                    <a:pt x="7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29320" y="462420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22"/>
                  </a:moveTo>
                  <a:lnTo>
                    <a:pt x="29" y="0"/>
                  </a:lnTo>
                  <a:lnTo>
                    <a:pt x="37" y="15"/>
                  </a:lnTo>
                  <a:lnTo>
                    <a:pt x="15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56400" y="453240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2"/>
                  </a:moveTo>
                  <a:lnTo>
                    <a:pt x="22" y="0"/>
                  </a:lnTo>
                  <a:lnTo>
                    <a:pt x="29" y="15"/>
                  </a:lnTo>
                  <a:lnTo>
                    <a:pt x="7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70520" y="444168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1"/>
                  </a:moveTo>
                  <a:lnTo>
                    <a:pt x="22" y="0"/>
                  </a:lnTo>
                  <a:lnTo>
                    <a:pt x="29" y="14"/>
                  </a:lnTo>
                  <a:lnTo>
                    <a:pt x="7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85000" y="4349520"/>
              <a:ext cx="572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1"/>
                  </a:moveTo>
                  <a:lnTo>
                    <a:pt x="22" y="0"/>
                  </a:lnTo>
                  <a:lnTo>
                    <a:pt x="36" y="14"/>
                  </a:lnTo>
                  <a:lnTo>
                    <a:pt x="8" y="2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00920" y="4257720"/>
              <a:ext cx="572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1"/>
                  </a:moveTo>
                  <a:lnTo>
                    <a:pt x="28" y="0"/>
                  </a:lnTo>
                  <a:lnTo>
                    <a:pt x="36" y="14"/>
                  </a:lnTo>
                  <a:lnTo>
                    <a:pt x="7" y="2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15040" y="4165560"/>
              <a:ext cx="572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2"/>
                  </a:moveTo>
                  <a:lnTo>
                    <a:pt x="29" y="0"/>
                  </a:lnTo>
                  <a:lnTo>
                    <a:pt x="36" y="14"/>
                  </a:lnTo>
                  <a:lnTo>
                    <a:pt x="14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40680" y="407340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2"/>
                  </a:moveTo>
                  <a:lnTo>
                    <a:pt x="22" y="0"/>
                  </a:lnTo>
                  <a:lnTo>
                    <a:pt x="29" y="14"/>
                  </a:lnTo>
                  <a:lnTo>
                    <a:pt x="7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54800" y="398124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14"/>
                  </a:moveTo>
                  <a:lnTo>
                    <a:pt x="22" y="0"/>
                  </a:lnTo>
                  <a:lnTo>
                    <a:pt x="37" y="14"/>
                  </a:lnTo>
                  <a:lnTo>
                    <a:pt x="8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0200" y="468324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29" y="0"/>
                  </a:moveTo>
                  <a:lnTo>
                    <a:pt x="65" y="36"/>
                  </a:lnTo>
                  <a:lnTo>
                    <a:pt x="29" y="65"/>
                  </a:lnTo>
                  <a:lnTo>
                    <a:pt x="0" y="3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33720" y="468324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6" y="0"/>
                  </a:moveTo>
                  <a:lnTo>
                    <a:pt x="65" y="36"/>
                  </a:lnTo>
                  <a:lnTo>
                    <a:pt x="36" y="65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78400" y="468324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6" y="0"/>
                  </a:moveTo>
                  <a:lnTo>
                    <a:pt x="65" y="36"/>
                  </a:lnTo>
                  <a:lnTo>
                    <a:pt x="36" y="65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23080" y="3935520"/>
              <a:ext cx="102960" cy="91800"/>
            </a:xfrm>
            <a:custGeom>
              <a:avLst/>
              <a:gdLst/>
              <a:ahLst/>
              <a:rect l="l" t="t" r="r" b="b"/>
              <a:pathLst>
                <a:path w="65" h="58">
                  <a:moveTo>
                    <a:pt x="29" y="0"/>
                  </a:moveTo>
                  <a:lnTo>
                    <a:pt x="65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4800" y="14763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7" y="0"/>
                  </a:moveTo>
                  <a:lnTo>
                    <a:pt x="65" y="29"/>
                  </a:lnTo>
                  <a:lnTo>
                    <a:pt x="37" y="65"/>
                  </a:lnTo>
                  <a:lnTo>
                    <a:pt x="0" y="2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5624640"/>
              <a:ext cx="103320" cy="11412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3720" y="5624640"/>
              <a:ext cx="114120" cy="11412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78400" y="5624640"/>
              <a:ext cx="114120" cy="11412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23080" y="5256000"/>
              <a:ext cx="114120" cy="1047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4800" y="3740040"/>
              <a:ext cx="115920" cy="11448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0200" y="54403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29" y="0"/>
                  </a:moveTo>
                  <a:lnTo>
                    <a:pt x="65" y="65"/>
                  </a:lnTo>
                  <a:lnTo>
                    <a:pt x="0" y="6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33720" y="54403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6" y="0"/>
                  </a:moveTo>
                  <a:lnTo>
                    <a:pt x="65" y="65"/>
                  </a:lnTo>
                  <a:lnTo>
                    <a:pt x="0" y="6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78400" y="5256000"/>
              <a:ext cx="102960" cy="92160"/>
            </a:xfrm>
            <a:custGeom>
              <a:avLst/>
              <a:gdLst/>
              <a:ahLst/>
              <a:rect l="l" t="t" r="r" b="b"/>
              <a:pathLst>
                <a:path w="65" h="58">
                  <a:moveTo>
                    <a:pt x="36" y="0"/>
                  </a:moveTo>
                  <a:lnTo>
                    <a:pt x="65" y="58"/>
                  </a:lnTo>
                  <a:lnTo>
                    <a:pt x="0" y="58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23080" y="50608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29" y="0"/>
                  </a:moveTo>
                  <a:lnTo>
                    <a:pt x="65" y="65"/>
                  </a:lnTo>
                  <a:lnTo>
                    <a:pt x="0" y="6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54800" y="3935520"/>
              <a:ext cx="103320" cy="91800"/>
            </a:xfrm>
            <a:custGeom>
              <a:avLst/>
              <a:gdLst/>
              <a:ahLst/>
              <a:rect l="l" t="t" r="r" b="b"/>
              <a:pathLst>
                <a:path w="65" h="58">
                  <a:moveTo>
                    <a:pt x="37" y="0"/>
                  </a:moveTo>
                  <a:lnTo>
                    <a:pt x="65" y="58"/>
                  </a:lnTo>
                  <a:lnTo>
                    <a:pt x="0" y="5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3200" y="5602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3200" y="4659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2200" y="371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2200" y="2774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2200" y="1833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2200" y="879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93920" y="581976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38 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38600" y="581976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75 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2120" y="581976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 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6440" y="581976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36 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1120" y="581976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40 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6129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.0 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16280" y="6129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.1 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0960" y="6129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.0 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92680" y="6129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1.0 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37360" y="6129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.1 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23760" y="5681520"/>
              <a:ext cx="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4200" y="5681520"/>
              <a:ext cx="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8440" y="5681520"/>
              <a:ext cx="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13120" y="5681520"/>
              <a:ext cx="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46640" y="5681520"/>
              <a:ext cx="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91320" y="5681520"/>
              <a:ext cx="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3840" y="6378480"/>
              <a:ext cx="443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livered Load (million pounds per yea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-1421280" y="3129480"/>
              <a:ext cx="35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umber of Segments in DO Vio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14680" y="1245960"/>
              <a:ext cx="3924000" cy="152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1487520"/>
              <a:ext cx="401760" cy="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90800" y="1454040"/>
              <a:ext cx="7920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1" y="0"/>
                  </a:moveTo>
                  <a:lnTo>
                    <a:pt x="50" y="21"/>
                  </a:lnTo>
                  <a:lnTo>
                    <a:pt x="21" y="50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0800" y="1366920"/>
              <a:ext cx="304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n Water DO Violation 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28800" y="1993680"/>
              <a:ext cx="401760" cy="0"/>
            </a:xfrm>
            <a:prstGeom prst="line">
              <a:avLst/>
            </a:prstGeom>
            <a:ln w="22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90800" y="1958760"/>
              <a:ext cx="79200" cy="8100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59720" y="1873080"/>
              <a:ext cx="302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ep Water DO Violation 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28800" y="2487600"/>
              <a:ext cx="4608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78200" y="2487600"/>
              <a:ext cx="4572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27240" y="2487600"/>
              <a:ext cx="4608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90800" y="246528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21" y="0"/>
                  </a:moveTo>
                  <a:lnTo>
                    <a:pt x="50" y="43"/>
                  </a:lnTo>
                  <a:lnTo>
                    <a:pt x="0" y="4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60080" y="2367000"/>
              <a:ext cx="326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ep Channel DO Violation 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BBF-8C53-4662-8833-225D039DA2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The WQGIT unanimously agreed to recommend preliminary, to-be-modified, second-shot, basin-wide target loads of…</a:t>
            </a:r>
            <a:endParaRPr b="1" i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3687840"/>
            <a:ext cx="2895840" cy="1752480"/>
          </a:xfrm>
          <a:prstGeom prst="ellipse">
            <a:avLst/>
          </a:prstGeom>
          <a:blipFill rotWithShape="0">
            <a:blip r:embed="rId1">
              <a:alphaModFix amt="48000"/>
            </a:blip>
            <a:srcRect/>
            <a:tile tx="0" ty="0" sx="100000" sy="100000" algn="ctr"/>
          </a:blipFill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3763800"/>
            <a:ext cx="2895480" cy="1752840"/>
          </a:xfrm>
          <a:prstGeom prst="ellips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068720"/>
            <a:ext cx="1219320" cy="763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04920" y="4145040"/>
            <a:ext cx="2285280" cy="39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760" y="4221000"/>
            <a:ext cx="2285280" cy="39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58080" y="4016520"/>
            <a:ext cx="230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Viner Hand ITC"/>
              </a:rPr>
              <a:t>200 m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Viner Hand ITC"/>
              </a:rPr>
              <a:t>Nitro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71600" y="3992400"/>
            <a:ext cx="305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Viner Hand ITC"/>
              </a:rPr>
              <a:t>15 m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Viner Hand ITC"/>
              </a:rPr>
              <a:t>Phospho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 rot="1832400">
            <a:off x="4812840" y="437796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D51-06A9-4C52-B2C5-A269534AA2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Decision Requested….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SC approval of the preliminary basinwide target load of 200 million pounds per year nitrogen and 15 million pounds per year phosphoru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724280" y="3056040"/>
            <a:ext cx="4419720" cy="38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9A8-FBD5-438D-BD3A-8425E52622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Decisions for Today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sinwide target load (revisited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sin-jurisdiction working target lo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e for completion of the Bay TMD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34280" y="3809880"/>
            <a:ext cx="270972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17A-5771-4456-8E83-6A389D4F34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Agenda Review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Overview and new basinwide target load- Koroncai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Method for distributing target load to basins-jurisdictions- Shenk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Options for distributing target load to basins-jurisdictions- Koroncai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Lunch- digest what you heard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Discuss and agree to working target loads to basins-jurisdictions- Secretary Bryant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chedule for TMDL- Batiuk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7F6-0AD5-4400-810E-51B33C8788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352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MDL’s are like sausages,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t is better not to see them being made.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640" y="457200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-Anonymous m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of the WQ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190-C441-4FBD-AF67-8295EE690F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As a reminder….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nal Bay TMDL is due December 201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raft Bay TMDL is due August 201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, the basinwide and basin-jurisdiction working target loads are </a:t>
            </a: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preliminary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but are sufficient to start the watershed implementation planning process!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FA1-6A2B-45E5-8B01-4A48B62A17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Basinwide Target Loads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146-F8EF-4B52-AFB2-B77724CAC6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38080" cy="517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114300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Recommended Basinwide Loads Will Change Du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Upgraded watershed model (Phase 5.2 to 5.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Filter feeder inclusion in the WQ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AV/clarity target load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Atmospheric deposition allocation and impact on ocean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Trade-offs between N and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Loading reductions needed to meet local Bay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993300"/>
                </a:solidFill>
                <a:uFillTx/>
                <a:latin typeface="Arial"/>
              </a:rPr>
              <a:t>Updated critical peri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3D4-ADE4-4764-87D0-9260678A19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360" y="0"/>
            <a:ext cx="555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Critical perio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19A-7488-4502-8843-5AFCEF3B54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Critical period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1996-1998- About once in 20 year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1993-1995- About once in 10 yea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Generally, the highest return interval used in Region III TMDL’s is…once in 10 years!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QGIT unanimously agreed to use 1993-1995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B60-C20D-45BF-BB5F-98CFDDF0D6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3:59:09Z</dcterms:created>
  <dc:creator>Bob Koroncai</dc:creator>
  <dc:description/>
  <dc:language>en-US</dc:language>
  <cp:lastModifiedBy>Rbatiuk</cp:lastModifiedBy>
  <dcterms:modified xsi:type="dcterms:W3CDTF">2009-10-13T21:33:25Z</dcterms:modified>
  <cp:revision>13</cp:revision>
  <dc:subject/>
  <dc:title>Slide 1</dc:title>
</cp:coreProperties>
</file>