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A3D-E317-4BD8-8101-89B5B1DD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E50-42E9-41EA-A698-8114AC7B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1AED-6658-4183-BB4E-FCAC12DF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9B8-17C8-4D10-8244-7F57F57C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B06-D346-49B7-910C-25613DBF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2EC-AFD9-4456-AEA6-FEA410A3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DA0-E498-4502-9287-8CA3FA9C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137-ED7B-4D01-9241-AA11EC94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E2C-3FF0-4748-966B-AFA89CD7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E85-E7CF-46B2-A6D2-661C2C3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0EC-9A71-4826-B203-FFAA8A43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404-794A-4840-8023-45F50B5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65A5-20DC-4CFE-BB42-10BA9D85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539" t="16954" r="2108" b="13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 to Distribute Target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s’ Staff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/23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Koroncai - Gary She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3FA-42AB-4BAA-9ED4-12B69537C7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4D8-4CBB-4617-9D39-1AC438BB6A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2 lines, WWTP and all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T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t WWTP at a high level and meet water quality goals with other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ed 5 options and reached a unanimous recommendation to forward the 2 follow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erences of WQG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E6C-6E58-4EEE-A014-B57B38D970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9800" y="914400"/>
            <a:ext cx="99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5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8480" y="1905120"/>
            <a:ext cx="802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9280" y="2895480"/>
            <a:ext cx="1866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55760" y="5068800"/>
            <a:ext cx="1468440" cy="459720"/>
          </a:xfrm>
          <a:prstGeom prst="rect">
            <a:avLst/>
          </a:prstGeom>
          <a:solidFill>
            <a:srgbClr val="e7d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5DC-FC8A-4B20-B9C2-7AC4E7603C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9800" y="914400"/>
            <a:ext cx="99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5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8480" y="1905120"/>
            <a:ext cx="802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9280" y="2895480"/>
            <a:ext cx="1866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55760" y="5068800"/>
            <a:ext cx="1468440" cy="459720"/>
          </a:xfrm>
          <a:prstGeom prst="rect">
            <a:avLst/>
          </a:prstGeom>
          <a:solidFill>
            <a:srgbClr val="e7d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D7F-AF45-4AFC-AE16-1F0AE0DC0C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60160" y="1309680"/>
            <a:ext cx="1119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2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1480" y="1752480"/>
            <a:ext cx="1119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3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9280" y="3290760"/>
            <a:ext cx="1866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971800"/>
            <a:ext cx="1468440" cy="459720"/>
          </a:xfrm>
          <a:prstGeom prst="rect">
            <a:avLst/>
          </a:prstGeom>
          <a:solidFill>
            <a:srgbClr val="e7d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293-D6CA-44B8-AD56-E2B75C8F09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60160" y="1309680"/>
            <a:ext cx="1119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2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1480" y="1752480"/>
            <a:ext cx="1119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3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9280" y="3290760"/>
            <a:ext cx="1866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971800"/>
            <a:ext cx="1468440" cy="459720"/>
          </a:xfrm>
          <a:prstGeom prst="rect">
            <a:avLst/>
          </a:prstGeom>
          <a:solidFill>
            <a:srgbClr val="e7d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772-27E3-4CCB-9F50-724F2FE731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89D-FA44-48EE-9166-B7DE3E4213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C6F-031C-4808-A14F-BC0DD0A72B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Requested . . 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PSC prefer option A or option B as the initial working target loads for the purpose of starting the watershed implementation pla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4C7-0552-4006-ADA8-B599FD1870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781-61AB-4666-8FFD-CD21C87DD9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81080" y="166680"/>
            <a:ext cx="609624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ffe6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Target Loa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682-D127-4B4A-90F9-FF1AFDF890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9EF-6770-40D5-A3C2-229D08EDB5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414-4154-4944-BE7F-E6C1406B9F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7A6-3A8A-401F-A445-BEDE10BE7A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21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125-DF8E-4771-81CA-EEE6F5AD59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1176" t="20909" r="4706" b="5455"/>
          <a:stretch/>
        </p:blipFill>
        <p:spPr>
          <a:xfrm>
            <a:off x="23760" y="914400"/>
            <a:ext cx="462456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9f4e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Effectiveness is a combination of Watershed Delivery and Estuarin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76520"/>
            <a:ext cx="1295280" cy="1295280"/>
          </a:xfrm>
          <a:prstGeom prst="rect">
            <a:avLst/>
          </a:prstGeom>
          <a:solidFill>
            <a:srgbClr val="f9f4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2833920" cy="365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6120" y="2597040"/>
            <a:ext cx="2824200" cy="365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27432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1676520"/>
            <a:ext cx="16761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2600" y="182880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omac Estu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56280" y="182880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Estu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FC4-06C2-46C2-AECA-0B84E394E0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5400000">
            <a:off x="3062880" y="4896000"/>
            <a:ext cx="698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111000" y="5423040"/>
            <a:ext cx="698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661840" y="447120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5709960" y="486972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204640" y="408888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208480" y="441252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1747440" y="309816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795560" y="309816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DFB-F9B8-47B7-BA18-F980E17489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106668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29492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752120" y="40384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10080" y="3352680"/>
            <a:ext cx="5724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286000" y="4038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48520" y="3200400"/>
            <a:ext cx="5688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590560" y="396216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743200" y="38862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57240" y="38862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647960" y="37339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4876920" y="373356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410080" y="365760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019920" y="358128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400800" y="358128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857640" y="35812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391160" y="342864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8000640" y="3352680"/>
            <a:ext cx="7621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166680"/>
            <a:ext cx="617220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ffe6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Target Load Method from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5400000">
            <a:off x="4281840" y="-2605680"/>
            <a:ext cx="1265400" cy="7848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5400000">
            <a:off x="4408200" y="1458720"/>
            <a:ext cx="1095120" cy="793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886360" y="3276720"/>
            <a:ext cx="5724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410600" y="3143160"/>
            <a:ext cx="5688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142640" y="1752480"/>
            <a:ext cx="2286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09280" y="1752480"/>
            <a:ext cx="195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090520" y="1600200"/>
            <a:ext cx="347400" cy="17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373120" y="1589040"/>
            <a:ext cx="587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74520" y="1654200"/>
            <a:ext cx="708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1360" y="1631880"/>
            <a:ext cx="75960" cy="141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18000" y="1685880"/>
            <a:ext cx="34776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18040" y="1674720"/>
            <a:ext cx="696960" cy="11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6720" y="1795320"/>
            <a:ext cx="315720" cy="101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07040" y="1652760"/>
            <a:ext cx="16344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575040" y="1663560"/>
            <a:ext cx="9720" cy="11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032600" y="1816200"/>
            <a:ext cx="7632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978320" y="1795320"/>
            <a:ext cx="446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837200" y="1674720"/>
            <a:ext cx="65160" cy="8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72200" y="2666880"/>
            <a:ext cx="5724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BD3-C96D-4786-93F0-C882DBF4B3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84680" y="3962520"/>
            <a:ext cx="1916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in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800600"/>
            <a:ext cx="3962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Basin-Jurisdictions have single target load no matter how many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862-DC1D-45F6-98DB-C5F49960FE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69560" y="3846600"/>
            <a:ext cx="21315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Sl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EE3-4DDE-460C-9219-DABA513529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68480" y="3846600"/>
            <a:ext cx="2006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of the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6E9-32C5-4F59-BCDF-8366C81E77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5040" y="3124080"/>
            <a:ext cx="2626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F95-AC52-4812-A94B-6039160D36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2:57:02Z</dcterms:created>
  <dc:creator>gshenk</dc:creator>
  <dc:description/>
  <dc:language>en-US</dc:language>
  <cp:lastModifiedBy>Kristin Foringer</cp:lastModifiedBy>
  <dcterms:modified xsi:type="dcterms:W3CDTF">2009-10-22T13:09:41Z</dcterms:modified>
  <cp:revision>11</cp:revision>
  <dc:subject/>
  <dc:title>Target Load Method</dc:title>
</cp:coreProperties>
</file>