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46AE-B545-49A2-ACC4-ABD71B79D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18A4-C514-4962-A383-1C79AB9C8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AEC9-7DB6-476D-A501-10BDB2AC8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A066-DD49-4168-BD95-2921F9B83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F15C-0908-4B08-B38B-6F92AEBCB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9209-AF82-4384-A483-A96428469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6E6D-B56D-41DC-88C1-388A5E8D8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8B77-FD1B-4D41-BA93-6EDAC26F2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AD27-BF4C-4FDA-AD0D-4CD079BC7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635D-D606-49A7-BECD-C4B098A58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16A9-1451-4718-AC1B-8FF33374F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22C8-8119-46A0-A011-5E3D65287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228600"/>
            <a:ext cx="9144000" cy="73915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i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2A1FD-8C2A-4CCF-9BF8-1DDA993795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Deciding on Initial Working Target Draft Loads to the Basin-Jurisdictions</a:t>
            </a:r>
            <a:br>
              <a:rPr sz="4400"/>
            </a:b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(Option A or Option B?)</a:t>
            </a:r>
            <a:endParaRPr b="1" i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6320" y="3429000"/>
            <a:ext cx="59436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Chesapeake Bay Program 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Principals’ Staff Committee Meeting 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October 23, 2009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Bob Koroncai 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USEPA Water Protection Division Region III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Attachment E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686560" y="3200400"/>
            <a:ext cx="34574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Arial"/>
              </a:rPr>
              <a:t>Remember…</a:t>
            </a:r>
            <a:endParaRPr b="1" i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These are only initial working target loads to start the watershed implementation plan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tates can move target loads to other basins if WQS are me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The separate lines for WWTP and other sources do NOT infer that is how the states need to divide their target load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286760" y="5019840"/>
            <a:ext cx="1857240" cy="1838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64D2-D9B2-4A03-B1DC-2F3D7DF3C74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776760" y="3416400"/>
            <a:ext cx="5367240" cy="3441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809880" y="0"/>
            <a:ext cx="5334120" cy="3352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623560" y="1789200"/>
            <a:ext cx="23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tion A: 198.9 m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712840" y="5286240"/>
            <a:ext cx="23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tion B:197.8 m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2514600"/>
            <a:ext cx="3124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arison of O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and B for Nitro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BA13-0BF7-4A88-951C-A71B5B833F5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3997440" cy="4572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Arial"/>
              </a:rPr>
              <a:t>State Total Target Loads</a:t>
            </a:r>
            <a:endParaRPr b="1" i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009520" y="1227240"/>
            <a:ext cx="11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itro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81120" y="1227240"/>
            <a:ext cx="151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ospho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647712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loads are in millions of pounds per ye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122720" cy="457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29F5-ECD3-44E5-B2D2-35FB32F34A1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Arial"/>
              </a:rPr>
              <a:t>Options Analysis</a:t>
            </a:r>
            <a:endParaRPr b="1" i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Results for both options are very similar (almost all are within 1%) except for the District of Columbia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Option B brings the District closer in line with the 2003 decision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8F4E-CD78-477A-91DF-709357D7002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Arial"/>
              </a:rPr>
              <a:t>Decision Requested…</a:t>
            </a:r>
            <a:endParaRPr b="1" i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3300"/>
                </a:solidFill>
                <a:latin typeface="Arial"/>
              </a:rPr>
              <a:t>PSC agreement on a set of nitrogen and phosphorus working target loads to each of the basin-jurisdictions for the purpose of initiating the watershed implementation planning process.</a:t>
            </a: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029200" y="3581280"/>
            <a:ext cx="4114800" cy="3540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9FA5-F88A-4EE8-972E-C0CA454FE5C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18:05:10Z</dcterms:created>
  <dc:creator>Bob Koroncai</dc:creator>
  <dc:description/>
  <dc:language>en-US</dc:language>
  <cp:lastModifiedBy>Kristin Foringer</cp:lastModifiedBy>
  <dcterms:modified xsi:type="dcterms:W3CDTF">2009-10-22T12:37:42Z</dcterms:modified>
  <cp:revision>12</cp:revision>
  <dc:subject/>
  <dc:title>Slide 1</dc:title>
</cp:coreProperties>
</file>