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D2D-B889-4C87-85D3-23A2DC54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C1B-9F85-45D1-8D59-FC9FDD57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200-AECF-43A3-9190-61301675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1C8-6000-4C14-B583-FFF4B8BE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648-7550-4DD0-A6D0-E602839D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B26-9741-4CCC-B1A9-425D8336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F2BA-2B99-4336-829C-DA7B8835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057-16C5-499D-BA9F-49567204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731-FFD9-494F-93A1-9D5B6040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353-3528-4B88-9816-245469D9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02A-9B4B-4A13-918E-55A73030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279-F7B7-4661-BE23-6F71C647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2E13-0582-44C9-AC4D-F2FE94A60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posed Bay TMDL Schedu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5105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 Early, Rich Batiuk and Bob Koronc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EPA Reg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achment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04812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sapeake Ba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s’ Staff Committee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3, 200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cision Reques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1523880"/>
            <a:ext cx="845820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al of the proposed October 2009-December 2010 Bay TMDL sched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Ste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PA to work with the WQ Goal Implementation Team reach agreement on a week-by-week set of specific milestones/actions to drive day-to-day work priorities and decision-making towards December 20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159-5B3E-4201-A663-65771B781F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cision Reques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523880"/>
            <a:ext cx="845820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ve forward to engage local governments, local partners on efforts to develop each jurisdiction’s plan for local imple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Ste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itiat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und of public mee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D29-3E18-42CE-94E5-A203BA463D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y TMDL Schedule Dri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A’s September 11, 2008 Letter to P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A will commit its best efforts to issue the TMDL by this earlier dat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tember 2009 202(a) E.O. Draf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cember 2010, EPA will establish a Total Maximum Daily Load (TMDL) for the Chesapeake Ba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tember 2009 Draft Reauthorization B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later than December 31, 2010, the Administrator shall establish a Chesapeake Bay-wide TMD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FF1-8840-4174-B704-9C8A8F0690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ners’ Conc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ufficient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ngage local governments, local partners by Dec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necessary to develop local scale target load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yet 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juris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more time to addre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diment al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fficient public comment peri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to respo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ublic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DEE-5CF3-4E6B-9580-173EAA553E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Schedule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mission of watershed implementation pla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November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pd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shed implementation pl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local target loa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ate for submission of prelimina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shed implementation pl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Jun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raft to August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ate for releas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 Bay TMD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pporting documentation to August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the public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iod from 90 to 6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responding to publi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AB7-5B19-4E4E-A06B-816F309D13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Milestones/Decision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ober 2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SC agreement on basinwide and basin-jurisdiction ‘working’ target 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ober 3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PA formally transmits watershed implementation plan guidance, working target loads to States, 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, DC start development of watershed implementation plans; EPA initiates first round of public meetings with juris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3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PA transmits consequences letter to States, 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43B-E2E0-45D7-8496-B3FB55B398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Milestones/Decision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b 15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ck down the Phase 5.3 watershed and Bay WQ/sediment transport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il 3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SC review/agreement on the draft watershed and tidal sediment target loads; potential changes to basin/jurisdiction nutrient target 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e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, DC submit preliminary watershed implementation plans by source sector and 303(d) segment drainag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20B-B149-41F8-864F-19D3E1D583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Milestones/Decision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e 2-July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PA works with jurisdictions to document draft wasteload and load allocations (from target loads) to meet states’ Bay WQ standards and revise preliminary watershed implementation plans, as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ly 15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SC reviews initial draft Bay TMDL and supporting documentation; provides EPA with requeste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gust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, DC submit revised draft watershed implementati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C38-50E1-4DA7-8C57-4AB386A370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Milestones/Decision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g 15-October 15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PA publishes draft Bay TMDL and supporting documentation for public review and comment; hosts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und of public meetings with juris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1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submit final watershed implementation plans; EPA confirms these allocations meet states’ Bay WQ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47A-6153-4E59-8A9B-21A4A11CC3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Milestones/Decision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 15-3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SC and WQGIT opportunity to review and provide specific comments to EPA on the Bay TMD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 1-15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PA prepares final Bay TMDL and supporting documentation for pub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 21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PA publication of final Bay TMDL and supporting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BA2-B57A-49A5-9E52-EF286C0444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38:29Z</dcterms:created>
  <dc:creator>Richard Batiuk</dc:creator>
  <dc:description/>
  <dc:language>en-US</dc:language>
  <cp:lastModifiedBy>Kristin Foringer</cp:lastModifiedBy>
  <dcterms:modified xsi:type="dcterms:W3CDTF">2009-10-15T19:37:42Z</dcterms:modified>
  <cp:revision>46</cp:revision>
  <dc:subject/>
  <dc:title>Commitments to the Principals’ Staff Committee</dc:title>
</cp:coreProperties>
</file>