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F27-71BE-4F33-8812-C6A9939E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DAB-032C-4994-B883-4ED7E2A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EF1-8F03-4668-9336-65E2F97F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DDA-FD5D-4973-984A-09F2B880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F20-2176-4C27-B16E-31121F23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2FC-33C2-43F6-85DF-4A410B7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E0C-2C8B-42F4-8872-B51CA019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83D7-8ADB-4E0D-8297-93D6C35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D915-5257-4D45-A4B7-71F93A56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072-D5D2-47E1-BEC0-1FDF8655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ECD-9B23-4295-9D22-4AAEE66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87C-517D-4ABD-B32F-C620C65B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210D-FE5D-4BFE-8331-8DF472A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C64F-A001-42FF-B2F3-94E39F1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AFC-7934-4925-A32D-82D185B0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FFB-DF0C-4172-A19D-62C7BBD1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AFB-120A-4769-B96C-7554A68C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726-C589-4EE6-96A4-F2D98FB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444-9E6E-4509-B000-6659543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E81-F632-4CD1-A215-F08A169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85C-99FE-41AE-BD06-37368465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A8D-86C9-487F-9CC8-CAA8147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200-54B7-4A11-BB1F-F82842D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2C5-2642-46DC-A64F-39D5366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1A28-0815-4A11-BA2E-4E84CCC50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1961-3EB2-421B-9D15-B0540CAFB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pa.gov/chesapeakebaytmd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xecutiveorder.chesapeakebay.net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42848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aging the Public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Executive Order-TMDL</a:t>
            </a:r>
            <a:br>
              <a:rPr sz="4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3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BP Principals’ Staff Committee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No.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Damm, Travis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Juncture in Bay Initia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DL-EO: Initiatives work together to drive progress in reducing wate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ra of performance and 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y TM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’ target 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implementation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nent release of draft strategy and final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of public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reach 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cy in provid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ies to solicit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the EO strategy and TM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takehold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MDL Public Meet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ck-off: Virginia public meeting/webinar, 10/2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round of public meetings – 11/4/09 through mid-Dec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TMDL Outreach Opportu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chesapeakebaytm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athering, will tra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events, meetings, 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Or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. 9 release of draft strategy, fin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forums: November, Dec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xecutiveorder.chesapeakebay.ne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.gov for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TMD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TMDL due mid-2010, final due December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implementation planning beg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target loads will be refined based on new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 line: Loads will achieve states’ Bay water quality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0:52:16Z</dcterms:created>
  <dc:creator>tdamm</dc:creator>
  <dc:description/>
  <dc:language>en-US</dc:language>
  <cp:lastModifiedBy>tloop</cp:lastModifiedBy>
  <dcterms:modified xsi:type="dcterms:W3CDTF">2009-10-20T21:36:59Z</dcterms:modified>
  <cp:revision>6</cp:revision>
  <dc:subject/>
  <dc:title>Engaging the Public</dc:title>
</cp:coreProperties>
</file>