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D4F-8684-4B6B-A9F5-B771D5F8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9F8-230C-4026-8C58-F2633348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65E-BB37-4A18-8695-22173EFF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366-F1D6-4895-A16B-B8714659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2DA-917C-4390-9679-AC28A676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F22-C4E6-40A5-B922-96341B74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D83E-38A0-4CA2-926D-FE7A2568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6FD-1CE3-49E6-AC46-4AD281CC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C1E-38B0-4FB4-8CF3-F250E0C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E91-70B7-444F-90F9-F0C4AB1A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83A-33D7-4820-858B-989EC12A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78D-5A7E-4E89-944D-32917F3F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B42D-8C8D-476B-8C78-A610C383E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6052" r="10059" b="0"/>
          <a:stretch/>
        </p:blipFill>
        <p:spPr>
          <a:xfrm>
            <a:off x="1523880" y="1447920"/>
            <a:ext cx="6248520" cy="4894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6781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y Kent Mount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hesapeake Bay Program Partnership’s SAV Aerial and Ground Surveys Design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9T05:22:42Z</dcterms:created>
  <dc:creator>blandry</dc:creator>
  <dc:description/>
  <dc:language>en-US</dc:language>
  <cp:lastModifiedBy>blandry</cp:lastModifiedBy>
  <dcterms:modified xsi:type="dcterms:W3CDTF">2017-03-29T05:23:21Z</dcterms:modified>
  <cp:revision>2</cp:revision>
  <dc:subject/>
  <dc:title>Slide 1</dc:title>
</cp:coreProperties>
</file>