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8D0C-ADDC-402F-8CD8-4DC188C04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Everyone. Thank you so much for coming today. Before we get started, I want to make sure everyone is signed in, has a name tag, and has signed up for pizza if you want it. Kyle will collect the money and put the order in once we’ve all had a chance to ord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our last management approach is to enhance research, citizen involvement, and education. If I could start over, I’d separate these out because entirely too much got piled into this one approach, but so be it. This ones giong to be a little more tedious to go 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ey action under this approach is to advance our knowledge in the fields of SAV biology, ecology, and genetics. Pretty all encompassing. We’ve got Cassie and Mike at UMCES, as well as Ailstock, Norman, Rybicki, Orth, Moore, and Duffy working on the biology of specific species. Maile, Katia, and Lora are working on determingin connectivity among source beds. And our newbie, Eric Bricker from UVA is working on understanding SAV reproduction and persistence which he’ll be telling us about this afterno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action is to figure out what’s going on with human induced stressors, including climate change. We’re looking at things like watershed land use, shoreline armoring, propeller scars, and living shorelines, as well as climate change. A lot of this work is in it’s final stages of completion, other parts are in the planning stages like this workshop. This we’ll be doing with STAC support in cahoots with the climate change coordinator and the fisheries GIT. The details haven’t been ironed out yet, but I’ll be soliciting your participation when the time comes for this workshop.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ve got lots of folks working on restoration techniques – some of this will get incorporated into our 20 acre restoration efforts. I won’t go into each of these now.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welfth key action is to complete and publish TS III, which Lee will be updating you on shortly. We’re also hoping to develop a communications strategy that enhances the public’s knowledge and appreciation of SAV, although this isn’t funded at the moment. And finally, the CBC will work collaboratively with the program partners to id needs to advance the goals of the agree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moving on, Lee is going to update us on TS I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up – the dreaded TO DO lis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that may not be aware of it, we have a charter, complete with mission statement. Our mission is to serve the broader bay community by guiding managers on the protection and restoration of SAV and by providing technical expertise on issues impacting SAV in the Ba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is to coordinate protection, restoration, monitoring, and research efforts among the CBP partner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ies are to develop two year milestones, to identify existing partnerships and programs that can be dedicated to compliment federal programs already in place, to identify resources needed to reach goals, to identify and facilitate the growth of new partnerships and opportunities to accelerate accomplishments, and to identify issues that are hampering progress and devise solutions. We also identify research needs and bay barometer indicators to accurately represent the status of SAV within the watersh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ve got a good meeting today. The morning will be comprised of catching up on what’s been happening since the last meeting, over a year ago, and the afternoon will be comprised of presentations from our members and some gues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decision making, I’m responsible for representing you all and submitting your requests to the HGIT leadership. We reach decisions through consensus, which is defined by lack of objection. We strive to have two meetings a year – doesn’t’ always happe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membership, which is where we may want to update things to reflect the fact that there’s now a chair and a vice chair. We’ve also been toying with the idea of recruiting a secretary, to make it more of a board situation and spread the responsibility. We can explore this possibility more via email, but I wanted to put it out here now incase any of you are interested or have students that might be interest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couple of workshops coming up, neither of which have actually been scheduled yet, but we got the go ahead on both. The first is a workshop to go over the SAV Aerial Survey. This is something Rich Batiuk, our EPA guy, came up with – not me. As most of you are aware, there’s a constant financial crisis regarding the SAV Aerial survey. Try as we might, we can’t convince any monied organizations to support the survey and we’re getting tighter and tighter every year. So the idea is to get all of the SAV data users in one place and figure out exactly what everyone needs. Regulatory needs, science needs, management needs, etc. Then with everyone’s input, we’d like to figure out if there’s possibly a cheaper way to conduct the survey – to get all the information necessary, for less money.  What Rich needs from you all is buy in to do the survey and a general willingness to participate. Since many of you are users of the data, you’ll likely be asked to participate. It  might turn out that nothing changes and that the survey is as efficient as it can be right now. Id personally like it to stay as is, but we might have to change it up in order to save it. We don’t have to get into it now, but I’ll be sending out an email soon to solicit a list of users. Are there any questions about thi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rkshop is the brain child of Karl Hershner and Zoe Johnson, the CBP Climate Change coordinator. This will be a three day workshop where one day is dedicated to SAV, one to oysters, and one to blue crabs – three iconic bay species likely to be impacted by climate change. The details haven’t been worked out yet, but the general idea is to workshop on how to adaptively manage for climate change impacts, and use the lessons learned from SAV, Crabs, and Oysters and apply them to other bay resour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ithout any further ado, one of the biggest events since our last meeting has been a change in management. Lee retired his post after 7 successful years leading the group and reluctantly passed the reigns to Becky and myself to take over for him. In addition to us, the entire habitat GIT leadership has changed.  Mike Slattery was the previous HGIT chair, and when his term came up a few months ago, Jana, the vice chair, agreed to lead the way until the end of April, at which point Christine Conn and Dave Whithurst will take over as chair and co-chair. Christine is the Director of the Integrated Policy and Review Unit at Md DNR, and Dave is the Director of the Wildlife Resources Bureau at Virginia’s DGIF. And I put this chart up here for those of you that are new or just don’t know how the Bay program is organized with regard to the SAV workgroup. The workgroup is one of several that are part fo the Vital Habitats Goal Implementation Team. And the HGIT is one of several GITS. As you can see there’s a sustainable fisheries GIT, and Water Quality GIT, a Healthy Watersheds GIT, etc. These all fall under the purview of the management board. Many of you might be familiar with STAC and STAR, two advisory groups that help the GITs get stuff don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e of the first things we tackled was completing and getting our SAV Management Strategy online. As part of the Chesapeake Watershed Agreement, each outcome has to have a management strategy. Our outcome is part of the vital habitats goal and Our specific outcome is 185,000 acres of SAV bay wide, with interim goals of 90,000 acres by 2017 and 130,000 acres by 2025. There’s not an actual end date for the 185,000 acr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nagement strategy take four approaches, which are to restore water calrity in the bay, to protect the existing sav in the bay, to restore SAV, and to enhance research, citizen involvement, and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pproaches are then reflected in our two year work plan, which was the next hurdle that we jumped. The two year workplan was just submitted again and is in its final phase of review by the management board. I want to thank everyone who contributed to it and who has committed to working towards our goals. This is going to be semi painful, but I want to take a little time now to go through the workplan just so everyone knows just what’s in it. I can’t imagine you all actually rea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irst management approach: restore water clarity. We’re not responsible for much on this one – this is primarily under the purview of the water quality GIT, but we have committed to working with them as appropriate, and Dick Zimmerman at ODU is continueing to improve the SAV component of the shallow water model. Mov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management approach is to PROTECT existing SAV in the bay. We’re aiming to do this via four key actions, the first of which is to evaluate and enhance the current statutes and regulations that protect existing SAV in the Bay. Some of you might remember that we almost got funding to do this work, but lost it at the last minute. So this isn’t currently funded, but we’re leaving it in in hopes that it will be. Our fourth key action is to continue monitoring SAV in the Bay. This will be done via the Bay wide aerial survey as well as at long term monitoring sites throughout the bay. Next we’re going to manage invasive species that might threaten SAV, be they plant or animal. And finally we’re going to determine the economic value of SAV. We’ve got Lisa Wainger and Chris Kennedy working on this as part of the SAV TS III, as well as Elliot Campbell at DNR that’s working on this and will be presenting his results later this afterno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rd management approach is to RESTORE SAV in the Bay. We’ve committed to planting 20 acres of SAV in the Bay every year. This is going to be split evenly between mD and Va, with DNR spearheading the effort in MD, and VIMS in Va. You all might remember the emails I sent out about a month ago looking for input on sites – Mark lewandowski at DNR is working with Steve and Mike at AACC to compile those recommendations and get to work on that in the next month or so. We’ll also be working with the army corps to loko for opportunities to optimize condidtions that would allow for natural or assisted restoration of SAV when possible in the course of completing non SAV specific projec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ECC3A-E821-4A9F-B699-9D3600F56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987A8-80F8-4EA9-BA02-760790A1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62E46-672C-4C41-BD93-B2BDC304D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077B3-DB88-408B-A1E3-B4AF4AE9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635C-D502-4AAA-86C8-9125829F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DD3AA-894E-4314-86EE-D7B775663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8DE8-E16A-480F-B6AE-1E65826B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C238E-F5C7-4BEE-BDFF-E2B5192A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107E-8C85-4B53-ABBF-E024DFCF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14FB7-E018-4E75-9065-FC96A219E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A72F-0D23-4E2D-9C39-E68DC221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D62C-2F8B-4466-9241-601606679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7B1B-063E-461C-9C79-99489E447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pawebconferencing.acms.com/sav"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solidFill>
            <a:srgbClr val="ffffff">
              <a:alpha val="6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a:t>
            </a:r>
            <a:br>
              <a:rPr sz="4400"/>
            </a:br>
            <a:r>
              <a:rPr b="1" lang="en-US" sz="4400" spc="-1" strike="noStrike">
                <a:solidFill>
                  <a:srgbClr val="000000"/>
                </a:solidFill>
                <a:latin typeface="Garamond"/>
              </a:rPr>
              <a:t>Spring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81280"/>
            <a:ext cx="9144000" cy="2895840"/>
          </a:xfrm>
          <a:prstGeom prst="rect">
            <a:avLst/>
          </a:prstGeom>
          <a:solidFill>
            <a:srgbClr val="ffffff">
              <a:alpha val="60000"/>
            </a:srgbClr>
          </a:solid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ch 31st, 2016</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30 am – 5:00 p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sapeake Bay Program Offic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oe Macknis Memorial Conference Room (Fish Shac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10 Severn Ave, Annapolis, MD 21403</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ference Line:</a:t>
            </a:r>
            <a:r>
              <a:rPr b="0" lang="en-US" sz="1800" spc="-1" strike="noStrike">
                <a:solidFill>
                  <a:srgbClr val="000000"/>
                </a:solidFill>
                <a:latin typeface="Garamond"/>
              </a:rPr>
              <a:t> 866-299-3188 </a:t>
            </a:r>
            <a:r>
              <a:rPr b="1" lang="en-US" sz="1800" spc="-1" strike="noStrike">
                <a:solidFill>
                  <a:srgbClr val="000000"/>
                </a:solidFill>
                <a:latin typeface="Garamond"/>
              </a:rPr>
              <a:t>Code:</a:t>
            </a:r>
            <a:r>
              <a:rPr b="0" lang="en-US" sz="1800" spc="-1" strike="noStrike">
                <a:solidFill>
                  <a:srgbClr val="000000"/>
                </a:solidFill>
                <a:latin typeface="Garamond"/>
              </a:rPr>
              <a:t> 410-267-573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obe Connect:</a:t>
            </a:r>
            <a:r>
              <a:rPr b="0" lang="en-US" sz="1800" spc="-1" strike="noStrike">
                <a:solidFill>
                  <a:srgbClr val="000000"/>
                </a:solidFill>
                <a:latin typeface="Garamond"/>
              </a:rPr>
              <a:t> </a:t>
            </a:r>
            <a:r>
              <a:rPr b="0" lang="en-US" sz="1800" spc="-1" strike="noStrike" u="sng">
                <a:solidFill>
                  <a:srgbClr val="009999"/>
                </a:solidFill>
                <a:uFillTx/>
                <a:latin typeface="Garamond"/>
                <a:hlinkClick r:id="rId2"/>
              </a:rPr>
              <a:t>https://epawebconferencing.acms.com/sav</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Note: Enter as Guest with your name and affil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6" name=""/>
          <p:cNvSpPr/>
          <p:nvPr/>
        </p:nvSpPr>
        <p:spPr>
          <a:xfrm>
            <a:off x="0" y="1371600"/>
            <a:ext cx="9144000" cy="44830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a:t>
            </a:r>
            <a:r>
              <a:rPr b="0" lang="en-US" sz="1800" spc="-1" strike="noStrike">
                <a:solidFill>
                  <a:srgbClr val="000000"/>
                </a:solidFill>
                <a:latin typeface="Garamond"/>
              </a:rPr>
              <a:t> Advance knowledge in the fields of SAV Biology, Ecology, and Gene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 Increase knowledge regarding the biology and ecology of SAV species throughout the </a:t>
            </a:r>
            <a:r>
              <a:rPr b="0" lang="en-US" sz="1800" spc="-1" strike="noStrike">
                <a:solidFill>
                  <a:srgbClr val="000000"/>
                </a:solidFill>
                <a:latin typeface="Garamond"/>
              </a:rPr>
              <a:t>	</a:t>
            </a:r>
            <a:r>
              <a:rPr b="0" lang="en-US" sz="1800" spc="-1" strike="noStrike">
                <a:solidFill>
                  <a:srgbClr val="000000"/>
                </a:solidFill>
                <a:latin typeface="Garamond"/>
              </a:rPr>
              <a:t>Bay. (Kemp, Gurbisz, UMCES; Ailstock, Norman, AACC; Rybicki, USGS; Orth, Moore, </a:t>
            </a:r>
            <a:r>
              <a:rPr b="0" lang="en-US" sz="1800" spc="-1" strike="noStrike">
                <a:solidFill>
                  <a:srgbClr val="000000"/>
                </a:solidFill>
                <a:latin typeface="Garamond"/>
              </a:rPr>
              <a:t>	</a:t>
            </a:r>
            <a:r>
              <a:rPr b="0" lang="en-US" sz="1800" spc="-1" strike="noStrike">
                <a:solidFill>
                  <a:srgbClr val="000000"/>
                </a:solidFill>
                <a:latin typeface="Garamond"/>
              </a:rPr>
              <a:t>Duffy,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B. Work towards determining connectivity among source beds that act as a source of </a:t>
            </a:r>
            <a:r>
              <a:rPr b="0" lang="en-US" sz="1800" spc="-1" strike="noStrike">
                <a:solidFill>
                  <a:srgbClr val="000000"/>
                </a:solidFill>
                <a:latin typeface="Garamond"/>
              </a:rPr>
              <a:t>	</a:t>
            </a:r>
            <a:r>
              <a:rPr b="0" lang="en-US" sz="1800" spc="-1" strike="noStrike">
                <a:solidFill>
                  <a:srgbClr val="000000"/>
                </a:solidFill>
                <a:latin typeface="Garamond"/>
              </a:rPr>
              <a:t>seed/genetic material over varying spatial scales (Neel, UMD; Engelhart, UMD AL; </a:t>
            </a:r>
            <a:r>
              <a:rPr b="0" lang="en-US" sz="1800" spc="-1" strike="noStrike">
                <a:solidFill>
                  <a:srgbClr val="000000"/>
                </a:solidFill>
                <a:latin typeface="Garamond"/>
              </a:rPr>
              <a:t>	</a:t>
            </a:r>
            <a:r>
              <a:rPr b="0" lang="en-US" sz="1800" spc="-1" strike="noStrike">
                <a:solidFill>
                  <a:srgbClr val="000000"/>
                </a:solidFill>
                <a:latin typeface="Garamond"/>
              </a:rPr>
              <a:t>Harris, UM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 Further understanding of SAV reproduction and persistence strategies (Bricker, U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8" name=""/>
          <p:cNvSpPr/>
          <p:nvPr/>
        </p:nvSpPr>
        <p:spPr>
          <a:xfrm>
            <a:off x="0" y="1273320"/>
            <a:ext cx="9144000" cy="58546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r>
              <a:rPr b="0" lang="en-US" sz="1800" spc="-1" strike="noStrike">
                <a:solidFill>
                  <a:srgbClr val="000000"/>
                </a:solidFill>
                <a:latin typeface="Garamond"/>
              </a:rPr>
              <a:t> Advance knowledge regarding the effects of human induced stressors on SAV, including those of Climate Chan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 Increase the understanding of SAV community dynamics and response to stressors.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Weller, Patrick, Hannam, Orth, Wilcox, SERC/VIMS; Kemp, Gurbisz,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UMCES; Rybicki, USGS; Neel, UMD, Harris, UM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B. Determine the extent to which watershed land use impacts SAV survival and growth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Weller et al. SERC; Karrh et al,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 Determine the extent to which shoreline armoring influences existing SAV abundance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and distribution (Weller et al. SERC; Karrh et al/Whitbeck Md DNR/USF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D. Identify and map propeller scars due to commercial fishing activities and map their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recovery trajectories (Orth,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E. Determine the extent to which living shorelines impact SAV abundance and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distribution (Karrh,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F. Conduct climate impact workshop in conjunction with Bay Program Climate Change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coordinator (SAV Workgroup, CBP Climate Coordinator, Sustainable fisheries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G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0" name=""/>
          <p:cNvSpPr/>
          <p:nvPr/>
        </p:nvSpPr>
        <p:spPr>
          <a:xfrm>
            <a:off x="0" y="1387440"/>
            <a:ext cx="9144000" cy="54478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Management Approach 4: Enhance Research, Citizen Involvement, and Education in the Chesapeake Bay watersh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Key Acti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1.</a:t>
            </a:r>
            <a:r>
              <a:rPr b="0" lang="en-US" sz="1600" spc="-1" strike="noStrike">
                <a:solidFill>
                  <a:srgbClr val="000000"/>
                </a:solidFill>
                <a:latin typeface="Garamond"/>
              </a:rPr>
              <a:t> Advance knowledge of SAV restoration techniqu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 Work towards determining if success rate increases if a primary colonizing species is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planted first, followed by a climax species (Ailstock, AACC; Kemp and Murray,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UM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B. Attempt to identify the conditions under which planting multiple species in the sam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cation are likely to increase the chances of population survival (Ailstock,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AAC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 Attempt to identify and select species with characteristics that maximize ecological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function (Engelhart, UMCES –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D. Work towards determining the conditions under which planting multiple genotypes and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cally adapted genotypes are likely to increase chances of population survival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Neel, UMD; Engelhart, UMCES-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 Work towards determining at what density and spatial arrangement SAV should b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planted to maximize growth and survival (Ailstock, Norman, AACC; Orth,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VIMS, Moore, VIMS, Lewandowski, Md DN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 Continue SAV Modeling effort with implications for restoration and climate issues in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general (Harris, UMCES-CB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2" name=""/>
          <p:cNvSpPr/>
          <p:nvPr/>
        </p:nvSpPr>
        <p:spPr>
          <a:xfrm>
            <a:off x="0" y="1371600"/>
            <a:ext cx="9144000" cy="5306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r>
              <a:rPr b="0" lang="en-US" sz="1800" spc="-1" strike="noStrike">
                <a:solidFill>
                  <a:srgbClr val="000000"/>
                </a:solidFill>
                <a:latin typeface="Garamond"/>
              </a:rPr>
              <a:t> Complete and publish the third Technical Synthesis of research regarding SAV in the Chesapeake Bay. This document will highlight everything that is known, to date, regarding SAV in the Chesapeake Bay (SAV Workgroup, multiple auth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a:t>
            </a:r>
            <a:r>
              <a:rPr b="0" lang="en-US" sz="1800" spc="-1" strike="noStrike">
                <a:solidFill>
                  <a:srgbClr val="000000"/>
                </a:solidFill>
                <a:latin typeface="Garamond"/>
              </a:rPr>
              <a:t> Develop a communication strategy that enhances the public's knowledge of and appreciation for SAV in the Chesapeake Bay, similar to the models used to advance oyster and other wildlife restoration efforts. (SAV Workgroup, not fun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r>
              <a:rPr b="0" lang="en-US" sz="1800" spc="-1" strike="noStrike">
                <a:solidFill>
                  <a:srgbClr val="000000"/>
                </a:solidFill>
                <a:latin typeface="Garamond"/>
              </a:rPr>
              <a:t> The Chesapeake Bay Commission will work collaboratively with the Bay Program partners to identify legislative, budgetary and policy needs to advance the goals of the Chesapeake Watershed Agreement.  We will, in turn, pursue action within our member state General Assemblies and the United States Congress.  See CBC Resolution #14-1 for additional information on the CBC’s participation in the management strategies. (Chesapeake Bay Com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4" name=""/>
          <p:cNvSpPr/>
          <p:nvPr/>
        </p:nvSpPr>
        <p:spPr>
          <a:xfrm>
            <a:off x="2438280" y="3352680"/>
            <a:ext cx="3353040" cy="825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estions?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echnical Synthesis I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orkgroup to do list</a:t>
            </a:r>
            <a:endParaRPr b="0" lang="en-US" sz="4400" spc="-1" strike="noStrike">
              <a:solidFill>
                <a:srgbClr val="000000"/>
              </a:solidFill>
              <a:latin typeface="Arial"/>
            </a:endParaRPr>
          </a:p>
        </p:txBody>
      </p:sp>
      <p:sp>
        <p:nvSpPr>
          <p:cNvPr id="87" name="PlaceHolder 2"/>
          <p:cNvSpPr>
            <a:spLocks noGrp="1"/>
          </p:cNvSpPr>
          <p:nvPr>
            <p:ph/>
          </p:nvPr>
        </p:nvSpPr>
        <p:spPr>
          <a:xfrm>
            <a:off x="0" y="1676520"/>
            <a:ext cx="9144000" cy="4525920"/>
          </a:xfrm>
          <a:prstGeom prst="rect">
            <a:avLst/>
          </a:prstGeom>
          <a:solidFill>
            <a:srgbClr val="ffffff">
              <a:alpha val="70000"/>
            </a:srgbClr>
          </a:solidFill>
          <a:ln w="0">
            <a:noFill/>
          </a:ln>
        </p:spPr>
        <p:txBody>
          <a:bodyPr lIns="90000" rIns="90000" tIns="46800" bIns="46800" anchor="t">
            <a:normAutofit/>
          </a:bodyPr>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Update the Charter? </a:t>
            </a:r>
            <a:endParaRPr b="0" lang="en-US" sz="3200" spc="-1" strike="noStrike">
              <a:solidFill>
                <a:srgbClr val="000000"/>
              </a:solidFill>
              <a:latin typeface="Arial"/>
            </a:endParaRPr>
          </a:p>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velop a websit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orkshops</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Aerial Survey Workshop</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Climate Change Workshop</a:t>
            </a:r>
            <a:endParaRPr b="0" lang="en-US" sz="28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7324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89" name="PlaceHolder 2"/>
          <p:cNvSpPr>
            <a:spLocks noGrp="1"/>
          </p:cNvSpPr>
          <p:nvPr>
            <p:ph/>
          </p:nvPr>
        </p:nvSpPr>
        <p:spPr>
          <a:xfrm>
            <a:off x="0" y="1676520"/>
            <a:ext cx="9144000" cy="4525920"/>
          </a:xfrm>
          <a:prstGeom prst="rect">
            <a:avLst/>
          </a:prstGeom>
          <a:solidFill>
            <a:srgbClr val="ffffff">
              <a:alpha val="8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ission Statement: </a:t>
            </a:r>
            <a:r>
              <a:rPr b="1" i="1" lang="en-US" sz="3200" spc="-1" strike="noStrike">
                <a:solidFill>
                  <a:srgbClr val="000000"/>
                </a:solidFill>
                <a:latin typeface="Garamond"/>
              </a:rPr>
              <a:t>The Submerged Aquatic Vegetation Workgroup serves the broader Bay community by guiding managers on the protection and restoration of SAV and providing technical expertise on issues impacting SAV in the Bay.</a:t>
            </a:r>
            <a:r>
              <a:rPr b="1" lang="en-US" sz="3200" spc="-1" strike="noStrike">
                <a:solidFill>
                  <a:srgbClr val="000000"/>
                </a:solidFill>
                <a:latin typeface="Garamond"/>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1" name="PlaceHolder 2"/>
          <p:cNvSpPr>
            <a:spLocks noGrp="1"/>
          </p:cNvSpPr>
          <p:nvPr>
            <p:ph/>
          </p:nvPr>
        </p:nvSpPr>
        <p:spPr>
          <a:xfrm>
            <a:off x="0" y="1980720"/>
            <a:ext cx="9144000" cy="3124440"/>
          </a:xfrm>
          <a:prstGeom prst="rect">
            <a:avLst/>
          </a:prstGeom>
          <a:solidFill>
            <a:srgbClr val="ffffff">
              <a:alpha val="8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urpo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purpose of the Submerged Aquatic Vegetation Workgroup is to coordinate protection, restoration, monitoring and research efforts among the Chesapeake Bay Program partn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3" name="PlaceHolder 2"/>
          <p:cNvSpPr>
            <a:spLocks noGrp="1"/>
          </p:cNvSpPr>
          <p:nvPr>
            <p:ph/>
          </p:nvPr>
        </p:nvSpPr>
        <p:spPr>
          <a:xfrm>
            <a:off x="0" y="1447560"/>
            <a:ext cx="9144000" cy="5181480"/>
          </a:xfrm>
          <a:prstGeom prst="rect">
            <a:avLst/>
          </a:prstGeom>
          <a:solidFill>
            <a:srgbClr val="ffffff">
              <a:alpha val="80000"/>
            </a:srgbClr>
          </a:solid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sponsibilitie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he workgroup will contribute to the Chesapeake Bay Program’s goals b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veloping two-year milestones for workgroup goal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existing partnerships and programs that can be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dicated to compliment federal programs already in plac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resources needed to reach goal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and facilitating the growth of new partnerships and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opportunities to accelerate accomplishment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issues that are hampering progress and devising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solution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  Identify research need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  Identify Bay Barometer indicators to accurately represent the status of SAV within the water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1275480"/>
            <a:ext cx="9144000" cy="558036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0 am:</a:t>
            </a:r>
            <a:r>
              <a:rPr b="0" lang="en-US" sz="1800" spc="-1" strike="noStrike">
                <a:solidFill>
                  <a:srgbClr val="000000"/>
                </a:solidFill>
                <a:latin typeface="Garamond"/>
              </a:rPr>
              <a:t> Welcome and round table introdu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30 am</a:t>
            </a:r>
            <a:r>
              <a:rPr b="0" lang="en-US" sz="1800" spc="-1" strike="noStrike">
                <a:solidFill>
                  <a:srgbClr val="000000"/>
                </a:solidFill>
                <a:latin typeface="Garamond"/>
              </a:rPr>
              <a:t>: Workgroup business and open discus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1. Since the last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Regime Chan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Management 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2-Year Work 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TS III (Lee Karrh,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2. Current and Futu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Charter review, Website development, Aerial Survey Worksho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0 pm:</a:t>
            </a:r>
            <a:r>
              <a:rPr b="0" lang="en-US" sz="1800" spc="-1" strike="noStrike">
                <a:solidFill>
                  <a:srgbClr val="000000"/>
                </a:solidFill>
                <a:latin typeface="Garamond"/>
              </a:rPr>
              <a:t> Working lunch (bring your own or order boxed lu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30 pm: </a:t>
            </a:r>
            <a:r>
              <a:rPr b="0" lang="en-US" sz="1800" spc="-1" strike="noStrike">
                <a:solidFill>
                  <a:srgbClr val="000000"/>
                </a:solidFill>
                <a:latin typeface="Garamond"/>
              </a:rPr>
              <a:t>Updates from group while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 pm</a:t>
            </a:r>
            <a:r>
              <a:rPr b="0" lang="en-US" sz="1800" spc="-1" strike="noStrike">
                <a:solidFill>
                  <a:srgbClr val="000000"/>
                </a:solidFill>
                <a:latin typeface="Garamond"/>
              </a:rPr>
              <a:t>: 2015 Aerial SAV survey results (Dave Wilcox,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 pm: </a:t>
            </a:r>
            <a:r>
              <a:rPr b="0" lang="en-US" sz="1800" spc="-1" strike="noStrike">
                <a:solidFill>
                  <a:srgbClr val="000000"/>
                </a:solidFill>
                <a:latin typeface="Garamond"/>
              </a:rPr>
              <a:t>SAV</a:t>
            </a:r>
            <a:r>
              <a:rPr b="1" lang="en-US" sz="1800" spc="-1" strike="noStrike">
                <a:solidFill>
                  <a:srgbClr val="000000"/>
                </a:solidFill>
                <a:latin typeface="Garamond"/>
              </a:rPr>
              <a:t> </a:t>
            </a:r>
            <a:r>
              <a:rPr b="0" lang="en-US" sz="1800" spc="-1" strike="noStrike">
                <a:solidFill>
                  <a:srgbClr val="000000"/>
                </a:solidFill>
                <a:latin typeface="Garamond"/>
              </a:rPr>
              <a:t>Ecosystem Service Value (Elliot Campbell,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 pm</a:t>
            </a:r>
            <a:r>
              <a:rPr b="0" lang="en-US" sz="1800" spc="-1" strike="noStrike">
                <a:solidFill>
                  <a:srgbClr val="000000"/>
                </a:solidFill>
                <a:latin typeface="Garamond"/>
              </a:rPr>
              <a:t>: Chesapeake Bay Water Quality (Mark Trice,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0 pm</a:t>
            </a:r>
            <a:r>
              <a:rPr b="0" lang="en-US" sz="1800" spc="-1" strike="noStrike">
                <a:solidFill>
                  <a:srgbClr val="000000"/>
                </a:solidFill>
                <a:latin typeface="Garamond"/>
              </a:rPr>
              <a:t>: Br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 pm</a:t>
            </a:r>
            <a:r>
              <a:rPr b="0" lang="en-US" sz="1800" spc="-1" strike="noStrike">
                <a:solidFill>
                  <a:srgbClr val="000000"/>
                </a:solidFill>
                <a:latin typeface="Garamond"/>
              </a:rPr>
              <a:t>: SAV and Climate Change (Tom Arnold, Dickinson Colle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0 pm</a:t>
            </a:r>
            <a:r>
              <a:rPr b="0" lang="en-US" sz="1800" spc="-1" strike="noStrike">
                <a:solidFill>
                  <a:srgbClr val="000000"/>
                </a:solidFill>
                <a:latin typeface="Garamond"/>
              </a:rPr>
              <a:t>: SAV Reproduction and Persistence Strategies (Eric Bricker, U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 pm:</a:t>
            </a:r>
            <a:r>
              <a:rPr b="0" lang="en-US" sz="1800" spc="-1" strike="noStrike">
                <a:solidFill>
                  <a:srgbClr val="000000"/>
                </a:solidFill>
                <a:latin typeface="Garamond"/>
              </a:rPr>
              <a:t> Wrap-up and final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0/5ish</a:t>
            </a:r>
            <a:r>
              <a:rPr b="0" lang="en-US" sz="1800" spc="-1" strike="noStrike">
                <a:solidFill>
                  <a:srgbClr val="000000"/>
                </a:solidFill>
                <a:latin typeface="Garamond"/>
              </a:rPr>
              <a:t>: Happy Hour at Boatyard Bar and Grill</a:t>
            </a:r>
            <a:endParaRPr b="0" lang="en-US" sz="1800" spc="-1" strike="noStrike">
              <a:solidFill>
                <a:srgbClr val="000000"/>
              </a:solidFill>
              <a:latin typeface="Arial"/>
            </a:endParaRPr>
          </a:p>
        </p:txBody>
      </p:sp>
      <p:sp>
        <p:nvSpPr>
          <p:cNvPr id="51" name=""/>
          <p:cNvSpPr/>
          <p:nvPr/>
        </p:nvSpPr>
        <p:spPr>
          <a:xfrm>
            <a:off x="0" y="0"/>
            <a:ext cx="9144000" cy="944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9144000" cy="4038480"/>
          </a:xfrm>
          <a:prstGeom prst="rect">
            <a:avLst/>
          </a:prstGeom>
          <a:solidFill>
            <a:srgbClr val="ffffff">
              <a:alpha val="70000"/>
            </a:srgbClr>
          </a:solid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peratio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Decision Making</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hair will be responsible for representing the workgroup and submitting any requested items to Habitat GIT leadership.  The workgroup will reach decisions through generating consensus. </a:t>
            </a:r>
            <a:r>
              <a:rPr b="1" lang="en-US" sz="2400" spc="-1" strike="noStrike">
                <a:solidFill>
                  <a:srgbClr val="000000"/>
                </a:solidFill>
                <a:latin typeface="Garamond"/>
              </a:rPr>
              <a:t>Consensus is defined as lack of objection.</a:t>
            </a:r>
            <a:r>
              <a:rPr b="0" lang="en-US" sz="2400" spc="-1" strike="noStrike">
                <a:solidFill>
                  <a:srgbClr val="000000"/>
                </a:solidFill>
                <a:latin typeface="Garamond"/>
              </a:rPr>
              <a:t> In the absence of consensus, decisions can be reached by a majority vote. The chair will solicit input and feedback from the members prior to making decisions on all substantive matters. In situations that require rapid response decision-making, the chair will make decisions and will inform members as soon as possible.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7" name="PlaceHolder 2"/>
          <p:cNvSpPr>
            <a:spLocks noGrp="1"/>
          </p:cNvSpPr>
          <p:nvPr>
            <p:ph/>
          </p:nvPr>
        </p:nvSpPr>
        <p:spPr>
          <a:xfrm>
            <a:off x="0" y="1752480"/>
            <a:ext cx="9144000" cy="4525920"/>
          </a:xfrm>
          <a:prstGeom prst="rect">
            <a:avLst/>
          </a:prstGeom>
          <a:solidFill>
            <a:srgbClr val="ffffff">
              <a:alpha val="80000"/>
            </a:srgbClr>
          </a:solid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embership</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structure of the SAV workgroup consists of a chair and a diverse membership encompassing government agencies, academic institutions and non-profit organizations. </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dd: Vice chair and secre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ebsite Development</a:t>
            </a:r>
            <a:endParaRPr b="0" lang="en-US" sz="4400" spc="-1" strike="noStrike">
              <a:solidFill>
                <a:srgbClr val="000000"/>
              </a:solidFill>
              <a:latin typeface="Arial"/>
            </a:endParaRPr>
          </a:p>
        </p:txBody>
      </p:sp>
      <p:sp>
        <p:nvSpPr>
          <p:cNvPr id="99" name="PlaceHolder 2"/>
          <p:cNvSpPr>
            <a:spLocks noGrp="1"/>
          </p:cNvSpPr>
          <p:nvPr>
            <p:ph/>
          </p:nvPr>
        </p:nvSpPr>
        <p:spPr>
          <a:xfrm>
            <a:off x="0" y="1828440"/>
            <a:ext cx="9144000" cy="3809880"/>
          </a:xfrm>
          <a:prstGeom prst="rect">
            <a:avLst/>
          </a:prstGeom>
          <a:solidFill>
            <a:srgbClr val="ffffff">
              <a:alpha val="8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d like to use the Bay Program workgroup space to create a website that might be more useful to our members and also contribute to key action 13 of the work plan.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3. Develop a communication strategy that enhances the public's knowledge of and appreciation for SAV in the Chesapeake Bay, similar to the models used to advance oyster and other wildlife restoration effort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possibly a job for a secret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Aerial Survey Workshop</a:t>
            </a:r>
            <a:endParaRPr b="0" lang="en-US" sz="4400" spc="-1" strike="noStrike">
              <a:solidFill>
                <a:srgbClr val="000000"/>
              </a:solidFill>
              <a:latin typeface="Arial"/>
            </a:endParaRPr>
          </a:p>
        </p:txBody>
      </p:sp>
      <p:sp>
        <p:nvSpPr>
          <p:cNvPr id="101" name=""/>
          <p:cNvSpPr/>
          <p:nvPr/>
        </p:nvSpPr>
        <p:spPr>
          <a:xfrm>
            <a:off x="0" y="1827360"/>
            <a:ext cx="9144000" cy="4483080"/>
          </a:xfrm>
          <a:prstGeom prst="rect">
            <a:avLst/>
          </a:prstGeom>
          <a:solidFill>
            <a:srgbClr val="ffffff">
              <a:alpha val="70000"/>
            </a:srgbClr>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o evaluate the current SAV aerial survey/ground survey program design to ensure the full array of diverse user needs will be met well into the future, but through a streamlined survey design costing less per year than the current survey desig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objective of this workshop is to reach agreement 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 The full range of existing, intended and potential management, regulatory and research uses of the combined aerial and ground surveys’ data and produc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 The exact survey design requirements of each of those management, regulatory and research use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 Re-designed, integrated SAV aerial and ground surveys which best address all or the majority of the higher priority management, regulatory and research uses and fully factors in realistic operational consid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Climate Change Workshop</a:t>
            </a:r>
            <a:endParaRPr b="0" lang="en-US" sz="4400" spc="-1" strike="noStrike">
              <a:solidFill>
                <a:srgbClr val="000000"/>
              </a:solidFill>
              <a:latin typeface="Arial"/>
            </a:endParaRPr>
          </a:p>
        </p:txBody>
      </p:sp>
      <p:sp>
        <p:nvSpPr>
          <p:cNvPr id="103" name=""/>
          <p:cNvSpPr/>
          <p:nvPr/>
        </p:nvSpPr>
        <p:spPr>
          <a:xfrm>
            <a:off x="0" y="2040840"/>
            <a:ext cx="9144000" cy="3385800"/>
          </a:xfrm>
          <a:prstGeom prst="rect">
            <a:avLst/>
          </a:prstGeom>
          <a:solidFill>
            <a:srgbClr val="ffffff">
              <a:alpha val="7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limate Workgroup proposes a small workshop series, comprised of three one-day workshops (SAV, Oysters and Blue Crab) to be held in late-winter to spring of 2017, </a:t>
            </a:r>
            <a:r>
              <a:rPr b="1" lang="en-US" sz="2400" spc="-1" strike="noStrike">
                <a:solidFill>
                  <a:srgbClr val="000000"/>
                </a:solidFill>
                <a:latin typeface="Garamond"/>
              </a:rPr>
              <a:t>for the purposes of developing recommendations to guide adjustments of CBP monitoring plans and efforts to better anticipate, assess, and ultimately plan to address the factor of risk that climate change may have on the Partnership’s ability to attain Chesapeake Bay Agreement Goals and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ny other busi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724280" y="5029200"/>
            <a:ext cx="4419720" cy="23000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Habitat Goal Implementation Tea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hristine Conn, Chair (Director, Integrated Policy and Review Unit, Md DN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avid Whitehurst, Vice-Chair (Director, Wildlife Resources Bureau, Va DGIF)</a:t>
            </a:r>
            <a:endParaRPr b="0" lang="en-US" sz="1800" spc="-1" strike="noStrike">
              <a:solidFill>
                <a:srgbClr val="000000"/>
              </a:solidFill>
              <a:latin typeface="Arial"/>
            </a:endParaRPr>
          </a:p>
        </p:txBody>
      </p:sp>
      <p:sp>
        <p:nvSpPr>
          <p:cNvPr id="53" name=""/>
          <p:cNvSpPr/>
          <p:nvPr/>
        </p:nvSpPr>
        <p:spPr>
          <a:xfrm>
            <a:off x="0" y="5029200"/>
            <a:ext cx="4724280" cy="202572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SAV Workgrou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 Brooke Landry, Chair (Habitat Assessment Specialist, Md DN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ecky Golden, Vice-Chair (Project Manager, Habitat Monitoring &amp; Assessment</a:t>
            </a:r>
            <a:r>
              <a:rPr b="0" lang="en-US" sz="1800" spc="-1" strike="noStrike">
                <a:solidFill>
                  <a:srgbClr val="000000"/>
                </a:solidFill>
                <a:latin typeface="Garamond"/>
              </a:rPr>
              <a:t>, </a:t>
            </a:r>
            <a:r>
              <a:rPr b="1" lang="en-US" sz="1800" spc="-1" strike="noStrike">
                <a:solidFill>
                  <a:srgbClr val="000000"/>
                </a:solidFill>
                <a:latin typeface="Garamond"/>
              </a:rPr>
              <a:t>Md DNR)</a:t>
            </a:r>
            <a:endParaRPr b="0" lang="en-US" sz="1800" spc="-1" strike="noStrike">
              <a:solidFill>
                <a:srgbClr val="000000"/>
              </a:solidFill>
              <a:latin typeface="Arial"/>
            </a:endParaRPr>
          </a:p>
        </p:txBody>
      </p:sp>
      <p:grpSp>
        <p:nvGrpSpPr>
          <p:cNvPr id="54" name=""/>
          <p:cNvGrpSpPr/>
          <p:nvPr/>
        </p:nvGrpSpPr>
        <p:grpSpPr>
          <a:xfrm>
            <a:off x="2590920" y="1066680"/>
            <a:ext cx="6181560" cy="3886200"/>
            <a:chOff x="2590920" y="1066680"/>
            <a:chExt cx="6181560" cy="3886200"/>
          </a:xfrm>
        </p:grpSpPr>
        <p:pic>
          <p:nvPicPr>
            <p:cNvPr id="55" name="" descr=""/>
            <p:cNvPicPr/>
            <p:nvPr/>
          </p:nvPicPr>
          <p:blipFill>
            <a:blip r:embed="rId2"/>
            <a:srcRect l="0" t="16983" r="0" b="0"/>
            <a:stretch/>
          </p:blipFill>
          <p:spPr>
            <a:xfrm>
              <a:off x="2590920" y="1066680"/>
              <a:ext cx="6181560" cy="3859560"/>
            </a:xfrm>
            <a:prstGeom prst="rect">
              <a:avLst/>
            </a:prstGeom>
            <a:ln w="0">
              <a:noFill/>
            </a:ln>
          </p:spPr>
        </p:pic>
        <p:sp>
          <p:nvSpPr>
            <p:cNvPr id="56" name=""/>
            <p:cNvSpPr/>
            <p:nvPr/>
          </p:nvSpPr>
          <p:spPr>
            <a:xfrm>
              <a:off x="3586320" y="4224240"/>
              <a:ext cx="1062000" cy="7286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0" y="0"/>
            <a:ext cx="9144000" cy="94464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gime Change</a:t>
            </a:r>
            <a:endParaRPr b="0" lang="en-US" sz="4400" spc="-1" strike="noStrike">
              <a:solidFill>
                <a:srgbClr val="000000"/>
              </a:solidFill>
              <a:latin typeface="Arial"/>
            </a:endParaRPr>
          </a:p>
        </p:txBody>
      </p:sp>
      <p:sp>
        <p:nvSpPr>
          <p:cNvPr id="58" name=""/>
          <p:cNvSpPr/>
          <p:nvPr/>
        </p:nvSpPr>
        <p:spPr>
          <a:xfrm>
            <a:off x="4648320" y="5029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553080" y="205740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sapeake Bay Program Organizational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anagement Strategy</a:t>
            </a:r>
            <a:endParaRPr b="0" lang="en-US" sz="4400" spc="-1" strike="noStrike">
              <a:solidFill>
                <a:srgbClr val="000000"/>
              </a:solidFill>
              <a:latin typeface="Arial"/>
            </a:endParaRPr>
          </a:p>
        </p:txBody>
      </p:sp>
      <p:pic>
        <p:nvPicPr>
          <p:cNvPr id="61" name="" descr=""/>
          <p:cNvPicPr/>
          <p:nvPr/>
        </p:nvPicPr>
        <p:blipFill>
          <a:blip r:embed="rId2"/>
          <a:stretch/>
        </p:blipFill>
        <p:spPr>
          <a:xfrm>
            <a:off x="5834160" y="228600"/>
            <a:ext cx="2844720" cy="3657600"/>
          </a:xfrm>
          <a:prstGeom prst="rect">
            <a:avLst/>
          </a:prstGeom>
          <a:ln w="0">
            <a:noFill/>
          </a:ln>
        </p:spPr>
      </p:pic>
      <p:pic>
        <p:nvPicPr>
          <p:cNvPr id="62" name="" descr=""/>
          <p:cNvPicPr/>
          <p:nvPr/>
        </p:nvPicPr>
        <p:blipFill>
          <a:blip r:embed="rId3"/>
          <a:srcRect l="8683" t="3242" r="6978" b="0"/>
          <a:stretch/>
        </p:blipFill>
        <p:spPr>
          <a:xfrm>
            <a:off x="304920" y="914400"/>
            <a:ext cx="5032080" cy="5791320"/>
          </a:xfrm>
          <a:prstGeom prst="rect">
            <a:avLst/>
          </a:prstGeom>
          <a:ln w="0">
            <a:noFill/>
          </a:ln>
        </p:spPr>
      </p:pic>
      <p:sp>
        <p:nvSpPr>
          <p:cNvPr id="63" name=""/>
          <p:cNvSpPr/>
          <p:nvPr/>
        </p:nvSpPr>
        <p:spPr>
          <a:xfrm>
            <a:off x="228600" y="4114800"/>
            <a:ext cx="533412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410080" y="3470400"/>
            <a:ext cx="3505320" cy="33858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Submerged Aquatic Vegetation (SAV) Outco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hieve and sustain the ultimate outcome of </a:t>
            </a:r>
            <a:r>
              <a:rPr b="1" lang="en-US" sz="1800" spc="-1" strike="noStrike">
                <a:solidFill>
                  <a:srgbClr val="000000"/>
                </a:solidFill>
                <a:latin typeface="Garamond"/>
              </a:rPr>
              <a:t>185,000</a:t>
            </a:r>
            <a:r>
              <a:rPr b="0" lang="en-US" sz="1800" spc="-1" strike="noStrike">
                <a:solidFill>
                  <a:srgbClr val="000000"/>
                </a:solidFill>
                <a:latin typeface="Garamond"/>
              </a:rPr>
              <a:t> acres of SAV Bay‐wide necessary for a restored Bay. </a:t>
            </a:r>
            <a:r>
              <a:rPr b="1" lang="en-US" sz="1800" spc="-1" strike="noStrike">
                <a:solidFill>
                  <a:srgbClr val="000000"/>
                </a:solidFill>
                <a:latin typeface="Garamond"/>
              </a:rPr>
              <a:t>Progress toward this ultimate outcome will be measured against a target of 90,000 acres by 2017 and 130,000 acres by 20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anagement Strategy</a:t>
            </a:r>
            <a:endParaRPr b="0" lang="en-US" sz="4400" spc="-1" strike="noStrike">
              <a:solidFill>
                <a:srgbClr val="000000"/>
              </a:solidFill>
              <a:latin typeface="Arial"/>
            </a:endParaRPr>
          </a:p>
        </p:txBody>
      </p:sp>
      <p:sp>
        <p:nvSpPr>
          <p:cNvPr id="66" name=""/>
          <p:cNvSpPr/>
          <p:nvPr/>
        </p:nvSpPr>
        <p:spPr>
          <a:xfrm>
            <a:off x="5105520" y="2514600"/>
            <a:ext cx="3276360" cy="28602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ur Management Approaches: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store Water Clarit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tect Existing SAV</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store SAV</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nhance Research, Citizen Involvement, and Education</a:t>
            </a:r>
            <a:endParaRPr b="0" lang="en-US" sz="1800" spc="-1" strike="noStrike">
              <a:solidFill>
                <a:srgbClr val="000000"/>
              </a:solidFill>
              <a:latin typeface="Arial"/>
            </a:endParaRPr>
          </a:p>
        </p:txBody>
      </p:sp>
      <p:pic>
        <p:nvPicPr>
          <p:cNvPr id="67" name="" descr=""/>
          <p:cNvPicPr/>
          <p:nvPr/>
        </p:nvPicPr>
        <p:blipFill>
          <a:blip r:embed="rId2"/>
          <a:stretch/>
        </p:blipFill>
        <p:spPr>
          <a:xfrm>
            <a:off x="228600" y="1066680"/>
            <a:ext cx="436392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0" name=""/>
          <p:cNvSpPr/>
          <p:nvPr/>
        </p:nvSpPr>
        <p:spPr>
          <a:xfrm>
            <a:off x="0" y="1523880"/>
            <a:ext cx="9144000" cy="28371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1: Restore Water Clarity in the Chesapeake B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a:t>
            </a:r>
            <a:r>
              <a:rPr b="0" lang="en-US" sz="1800" spc="-1" strike="noStrike">
                <a:solidFill>
                  <a:srgbClr val="000000"/>
                </a:solidFill>
                <a:latin typeface="Garamond"/>
              </a:rPr>
              <a:t>Continue work to achieve water clarity/SAV standards in areas designated for SAV use - see Water </a:t>
            </a:r>
            <a:r>
              <a:rPr b="0" lang="en-US" sz="1800" spc="-1" strike="noStrike">
                <a:solidFill>
                  <a:srgbClr val="000000"/>
                </a:solidFill>
                <a:latin typeface="Garamond"/>
              </a:rPr>
              <a:t>	</a:t>
            </a:r>
            <a:r>
              <a:rPr b="0" lang="en-US" sz="1800" spc="-1" strike="noStrike">
                <a:solidFill>
                  <a:srgbClr val="000000"/>
                </a:solidFill>
                <a:latin typeface="Garamond"/>
              </a:rPr>
              <a:t>Quality GIT Workplan (Bay States: DC, DE, MD, NY, PA, VA, WV; Water Quality G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a:t>
            </a:r>
            <a:r>
              <a:rPr b="0" lang="en-US" sz="1800" spc="-1" strike="noStrike">
                <a:solidFill>
                  <a:srgbClr val="000000"/>
                </a:solidFill>
                <a:latin typeface="Garamond"/>
              </a:rPr>
              <a:t> Continue to improve the SAV component of shallow water model (Zimmerman, O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9072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2" name=""/>
          <p:cNvSpPr/>
          <p:nvPr/>
        </p:nvSpPr>
        <p:spPr>
          <a:xfrm>
            <a:off x="0" y="1143000"/>
            <a:ext cx="9144000" cy="66038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Management Approach 2:  Protect existing Submerged Aquatic Vegetation in the Chesapeake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Key Ac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a:t>
            </a:r>
            <a:r>
              <a:rPr b="0" lang="en-US" sz="1600" spc="-1" strike="noStrike">
                <a:solidFill>
                  <a:srgbClr val="000000"/>
                </a:solidFill>
                <a:latin typeface="Garamond"/>
              </a:rPr>
              <a:t>. Evaluate and enhance current statutes and regulations that protect existing SAV in the Chesapeake Bay. (SAV </a:t>
            </a:r>
            <a:r>
              <a:rPr b="0" lang="en-US" sz="1600" spc="-1" strike="noStrike">
                <a:solidFill>
                  <a:srgbClr val="000000"/>
                </a:solidFill>
                <a:latin typeface="Garamond"/>
              </a:rPr>
              <a:t>	</a:t>
            </a:r>
            <a:r>
              <a:rPr b="0" lang="en-US" sz="1600" spc="-1" strike="noStrike">
                <a:solidFill>
                  <a:srgbClr val="000000"/>
                </a:solidFill>
                <a:latin typeface="Garamond"/>
              </a:rPr>
              <a:t>Workgroup – not fun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a:t>
            </a:r>
            <a:r>
              <a:rPr b="0" lang="en-US" sz="1600" spc="-1" strike="noStrike">
                <a:solidFill>
                  <a:srgbClr val="000000"/>
                </a:solidFill>
                <a:latin typeface="Garamond"/>
              </a:rPr>
              <a:t> Monitor SAV throughout Chesapeake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 Continue annual Bay-wide aerial SAV monitoring to ensure up to date data regarding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the extent and recovery of SAV in the Chesapeake Bay and its tributaries. (Orth, Wilcox, VI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b. Conduct SAV Aerial Survey workshop (SAV Workgroup, EP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 Continue long-term monitoring of SAV sites throughout the B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MD DNR (Karrh, transects throughout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VIMS (Orth, Richardson, transects in Va portion of Bay; Shields, York Ri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FWS </a:t>
            </a:r>
            <a:r>
              <a:rPr b="0" lang="en-US" sz="1200" spc="-1" strike="noStrike">
                <a:solidFill>
                  <a:srgbClr val="000000"/>
                </a:solidFill>
                <a:latin typeface="Garamond"/>
              </a:rPr>
              <a:t>(McGowan, Poplar harbor, Harbor Cove, Cabin Cove, Lowes Point, Front Creek, Back Creek, Tilghman Is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BaCO DEPS (Witcher, Baltimore County Waterw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d. Conduct and share information on site specific surveys performed to determine th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existence and health of SAV on DoD installations. (Diebel, D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a:t>
            </a:r>
            <a:r>
              <a:rPr b="0" lang="en-US" sz="1600" spc="-1" strike="noStrike">
                <a:solidFill>
                  <a:srgbClr val="000000"/>
                </a:solidFill>
                <a:latin typeface="Garamond"/>
              </a:rPr>
              <a:t>. Manage invasive species (both plant and animal) that are considered detrimental to existing SAV populations (ie. Trapa natans, Mute swan). (Md DNR, FWS, NPS, USGS, VaDGI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a:t>
            </a:r>
            <a:r>
              <a:rPr b="0" lang="en-US" sz="1600" spc="-1" strike="noStrike">
                <a:solidFill>
                  <a:srgbClr val="000000"/>
                </a:solidFill>
                <a:latin typeface="Garamond"/>
              </a:rPr>
              <a:t> Work towards determining the economic value of SAV ecosystem services. (Wainger, UMCES; Kennedy, GMU;  Campbell, Md DN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4" name=""/>
          <p:cNvSpPr/>
          <p:nvPr/>
        </p:nvSpPr>
        <p:spPr>
          <a:xfrm>
            <a:off x="0" y="1905120"/>
            <a:ext cx="9144000" cy="3111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3: Restore Submerged Aquatic Vegetation in the Chesapeake B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a:t>
            </a:r>
            <a:r>
              <a:rPr b="0" lang="en-US" sz="1800" spc="-1" strike="noStrike">
                <a:solidFill>
                  <a:srgbClr val="000000"/>
                </a:solidFill>
                <a:latin typeface="Garamond"/>
              </a:rPr>
              <a:t> Plant, at minimum, 20 acres of SAV seeds and propagules in appropriate high water quality/clarity areas each year until goal is reached. (Lewandowski, Md DNR; Orth,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a:t>
            </a:r>
            <a:r>
              <a:rPr b="0" lang="en-US" sz="1800" spc="-1" strike="noStrike">
                <a:solidFill>
                  <a:srgbClr val="000000"/>
                </a:solidFill>
                <a:latin typeface="Garamond"/>
              </a:rPr>
              <a:t> Look for opportunities to optimize conditions that would allow for the natural or assisted restoration of SAV when possible and appropriate in the course of completing other non-SAV specific projects. (Gomez, US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8T20:16:35Z</dcterms:created>
  <dc:creator>blandry</dc:creator>
  <dc:description/>
  <dc:language>en-US</dc:language>
  <cp:lastModifiedBy>blandry</cp:lastModifiedBy>
  <dcterms:modified xsi:type="dcterms:W3CDTF">2016-03-31T11:46:48Z</dcterms:modified>
  <cp:revision>27</cp:revision>
  <dc:subject/>
  <dc:title>SAV Workgroup  Spring Meeting</dc:title>
</cp:coreProperties>
</file>