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FECA-8B2B-4911-89D2-0ADFAB8EB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BFED-FD96-45A1-9C15-AE5914ECE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g consumption advisories are widespread in US and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 one of the later states to provide consumption advice for 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g deposition rates are relatively high in M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dp.sws.uiuc.edu/conf/2014/pptpdf/Weiss-Penzias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4E20-0357-49B9-B1F3-C93CF892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ites are declining in Hg concentration and deposition. Increasing deposition in the SE is slowing the trend t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A1F1-21D9-4A67-861D-CE391F1B3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ecent increases in deposition; NOT related to increasing p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D05E-3EE4-494D-98E2-5772A079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EAE-EC25-41E3-82B2-A3912F0D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F43-A428-4A06-A9AF-57F3985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261-77D4-4287-A2E0-195A812D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C56-BF9B-46C7-ADB0-3E4E6056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3B6-40EF-45F3-BFA4-44B961FE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67E-E004-4F4C-9929-C1806503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6FF-4627-4A69-9221-AD95DDE6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2FE-8D43-4F40-9794-8D58D7F0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93F-8EA5-4199-BD3B-675D7E6E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E77-C768-413B-8626-C1E57CFB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05D-CA15-4607-B4A8-4CAEF4B6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A63-8053-44EB-A0A2-9E9B8DF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A32C-29E1-4C39-9E24-D9B073B01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  <a:ea typeface="Calibri"/>
              </a:rPr>
              <a:t>Mercury Deposition Net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ree MDN sites in M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D99 Beltsville – operated by UMD/College 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et deposition, Tekran air monitoring, AMNET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D08 Frostburg- operated by UM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et deposition, Tekran air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D00 -Edgewater – operated by SE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et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creen Shot 2015-05-12 at 4.46.24 PM.png"/>
          <p:cNvPicPr/>
          <p:nvPr/>
        </p:nvPicPr>
        <p:blipFill>
          <a:blip r:embed="rId1"/>
          <a:stretch/>
        </p:blipFill>
        <p:spPr>
          <a:xfrm>
            <a:off x="469908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73600" y="368280"/>
            <a:ext cx="440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N Sites in the Chesapeake Wate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: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: Dis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"/>
          <p:cNvGrpSpPr/>
          <p:nvPr/>
        </p:nvGrpSpPr>
        <p:grpSpPr>
          <a:xfrm>
            <a:off x="1371600" y="1066680"/>
            <a:ext cx="7646760" cy="5067360"/>
            <a:chOff x="1371600" y="1066680"/>
            <a:chExt cx="7646760" cy="5067360"/>
          </a:xfrm>
        </p:grpSpPr>
        <p:pic>
          <p:nvPicPr>
            <p:cNvPr id="53" name="Picture 4" descr="MDN dep 1998"/>
            <p:cNvPicPr/>
            <p:nvPr/>
          </p:nvPicPr>
          <p:blipFill>
            <a:blip r:embed="rId1"/>
            <a:stretch/>
          </p:blipFill>
          <p:spPr>
            <a:xfrm>
              <a:off x="1371600" y="1066680"/>
              <a:ext cx="7081200" cy="50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5"/>
            <p:cNvSpPr/>
            <p:nvPr/>
          </p:nvSpPr>
          <p:spPr>
            <a:xfrm>
              <a:off x="7170480" y="3410640"/>
              <a:ext cx="1847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997/1998 M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data from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ason et al. 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6"/>
            <p:cNvSpPr/>
            <p:nvPr/>
          </p:nvSpPr>
          <p:spPr>
            <a:xfrm>
              <a:off x="6770520" y="3686400"/>
              <a:ext cx="6588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7"/>
            <p:cNvSpPr/>
            <p:nvPr/>
          </p:nvSpPr>
          <p:spPr>
            <a:xfrm>
              <a:off x="6573240" y="3686400"/>
              <a:ext cx="65880" cy="68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8"/>
            <p:cNvSpPr/>
            <p:nvPr/>
          </p:nvSpPr>
          <p:spPr>
            <a:xfrm>
              <a:off x="6836760" y="3824280"/>
              <a:ext cx="65880" cy="6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9"/>
            <p:cNvSpPr/>
            <p:nvPr/>
          </p:nvSpPr>
          <p:spPr>
            <a:xfrm>
              <a:off x="6902640" y="3686400"/>
              <a:ext cx="65520" cy="68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0"/>
            <p:cNvSpPr/>
            <p:nvPr/>
          </p:nvSpPr>
          <p:spPr>
            <a:xfrm>
              <a:off x="6310440" y="3617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6837120" y="3824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6507720" y="3686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6903000" y="3548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Screen Shot 2015-05-12 at 4.43.38 PM.png"/>
          <p:cNvPicPr/>
          <p:nvPr/>
        </p:nvPicPr>
        <p:blipFill>
          <a:blip r:embed="rId1"/>
          <a:stretch/>
        </p:blipFill>
        <p:spPr>
          <a:xfrm>
            <a:off x="431640" y="-3240"/>
            <a:ext cx="858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368360" y="1258920"/>
            <a:ext cx="7280280" cy="4925880"/>
          </a:xfrm>
          <a:prstGeom prst="rect">
            <a:avLst/>
          </a:prstGeom>
          <a:ln w="0">
            <a:noFill/>
          </a:ln>
        </p:spPr>
      </p:pic>
      <p:sp>
        <p:nvSpPr>
          <p:cNvPr id="65" name="Title 1"/>
          <p:cNvSpPr/>
          <p:nvPr/>
        </p:nvSpPr>
        <p:spPr>
          <a:xfrm>
            <a:off x="395280" y="152280"/>
            <a:ext cx="8229600" cy="1006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nual volume-weighted Hg concentrations in wet de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Screen Shot 2015-05-12 at 4.55.46 PM.png"/>
          <p:cNvPicPr/>
          <p:nvPr/>
        </p:nvPicPr>
        <p:blipFill>
          <a:blip r:embed="rId1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57680" y="6478560"/>
            <a:ext cx="84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Weiss, Gay, Brigham, Parsons and Ter Schure, NADP presentation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Screen Shot 2015-05-12 at 5.03.21 PM.png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05840" y="647856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Weiss et al. NADP presentation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000" y="14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"/>
          <p:cNvPicPr/>
          <p:nvPr/>
        </p:nvPicPr>
        <p:blipFill>
          <a:blip r:embed="rId1"/>
          <a:stretch/>
        </p:blipFill>
        <p:spPr>
          <a:xfrm>
            <a:off x="4514760" y="2048040"/>
            <a:ext cx="4467240" cy="3794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0" y="2055960"/>
            <a:ext cx="4459320" cy="3786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  <a:ea typeface="Calibri"/>
              </a:rPr>
              <a:t>Annual trends in Hg Deposition </a:t>
            </a:r>
            <a:br>
              <a:rPr sz="44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  <a:ea typeface="Calibri"/>
              </a:rPr>
              <a:t>SMK PWM residual method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-15480" y="12305520"/>
            <a:ext cx="2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048360" y="1952640"/>
            <a:ext cx="15969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08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58920" y="1947960"/>
            <a:ext cx="167004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998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1"/>
          <p:cNvSpPr/>
          <p:nvPr/>
        </p:nvSpPr>
        <p:spPr>
          <a:xfrm flipV="1">
            <a:off x="3384720" y="5229000"/>
            <a:ext cx="66168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19"/>
          <p:cNvSpPr/>
          <p:nvPr/>
        </p:nvSpPr>
        <p:spPr>
          <a:xfrm flipV="1">
            <a:off x="7993080" y="5229000"/>
            <a:ext cx="6620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979640" y="580536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Sites marked with a star have trends that are significant (p &lt; 0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0400" y="64785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Weiss, Gay et al. Canadian Geophysical Union Joint Assembly, Ma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36:42Z</dcterms:created>
  <dc:creator>Gilmour</dc:creator>
  <dc:description/>
  <dc:language>en-US</dc:language>
  <cp:lastModifiedBy>Cynthia Gilmour</cp:lastModifiedBy>
  <dcterms:modified xsi:type="dcterms:W3CDTF">2015-05-12T22:06:03Z</dcterms:modified>
  <cp:revision>28</cp:revision>
  <dc:subject/>
  <dc:title>Slide 1</dc:title>
</cp:coreProperties>
</file>