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E37-4916-4C38-B32A-CE28EAC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16A-9BBE-4A9F-BBE3-15DADD1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39F-0473-4DC1-83FB-40696FCE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5D5-0A4C-47F8-A9A0-CC7BEDA0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EEE-F404-4F66-9256-C36C8D3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905-DAEA-414D-8560-EC5C520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1E5-ECBF-452F-A4FF-62AD649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A21-885C-414A-9BD4-32205C8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182-E8A4-4388-812D-94E61459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215-09B4-4625-ABC4-94FCE41D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DA9-E934-4A65-80DF-25BD28F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BAC-BB52-42F7-A52B-F7FEA9A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9AC2-91D6-4D0B-9FC3-EABC4C803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2920" y="152280"/>
            <a:ext cx="8677080" cy="6589800"/>
          </a:xfrm>
          <a:prstGeom prst="rect">
            <a:avLst/>
          </a:prstGeom>
          <a:noFill/>
          <a:ln w="507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268360" y="5697360"/>
            <a:ext cx="27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ethylmercury Production in Grou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420840" y="297000"/>
            <a:ext cx="8285040" cy="5373000"/>
            <a:chOff x="420840" y="297000"/>
            <a:chExt cx="8285040" cy="5373000"/>
          </a:xfrm>
        </p:grpSpPr>
        <p:sp>
          <p:nvSpPr>
            <p:cNvPr id="44" name="TextBox 7"/>
            <p:cNvSpPr/>
            <p:nvPr/>
          </p:nvSpPr>
          <p:spPr>
            <a:xfrm>
              <a:off x="709920" y="297000"/>
              <a:ext cx="799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Watershed Hg Research Program at SER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8"/>
            <p:cNvGrpSpPr/>
            <p:nvPr/>
          </p:nvGrpSpPr>
          <p:grpSpPr>
            <a:xfrm>
              <a:off x="1053000" y="2595240"/>
              <a:ext cx="4873680" cy="3074760"/>
              <a:chOff x="1053000" y="2595240"/>
              <a:chExt cx="4873680" cy="3074760"/>
            </a:xfrm>
          </p:grpSpPr>
          <p:grpSp>
            <p:nvGrpSpPr>
              <p:cNvPr id="46" name="Group 24"/>
              <p:cNvGrpSpPr/>
              <p:nvPr/>
            </p:nvGrpSpPr>
            <p:grpSpPr>
              <a:xfrm>
                <a:off x="1379520" y="3346200"/>
                <a:ext cx="3866400" cy="2041920"/>
                <a:chOff x="1379520" y="3346200"/>
                <a:chExt cx="3866400" cy="2041920"/>
              </a:xfrm>
            </p:grpSpPr>
            <p:sp>
              <p:nvSpPr>
                <p:cNvPr id="47" name="Freeform 25"/>
                <p:cNvSpPr/>
                <p:nvPr/>
              </p:nvSpPr>
              <p:spPr>
                <a:xfrm>
                  <a:off x="1379520" y="4472640"/>
                  <a:ext cx="3866400" cy="844920"/>
                </a:xfrm>
                <a:custGeom>
                  <a:avLst/>
                  <a:gdLst/>
                  <a:ahLst/>
                  <a:rect l="l" t="t" r="r" b="b"/>
                  <a:pathLst>
                    <a:path w="3216" h="432">
                      <a:moveTo>
                        <a:pt x="0" y="96"/>
                      </a:moveTo>
                      <a:cubicBezTo>
                        <a:pt x="336" y="48"/>
                        <a:pt x="672" y="0"/>
                        <a:pt x="864" y="0"/>
                      </a:cubicBezTo>
                      <a:cubicBezTo>
                        <a:pt x="1056" y="0"/>
                        <a:pt x="1008" y="56"/>
                        <a:pt x="1152" y="96"/>
                      </a:cubicBezTo>
                      <a:cubicBezTo>
                        <a:pt x="1296" y="136"/>
                        <a:pt x="1488" y="192"/>
                        <a:pt x="1728" y="240"/>
                      </a:cubicBezTo>
                      <a:cubicBezTo>
                        <a:pt x="1968" y="288"/>
                        <a:pt x="2344" y="352"/>
                        <a:pt x="2592" y="384"/>
                      </a:cubicBezTo>
                      <a:cubicBezTo>
                        <a:pt x="2840" y="416"/>
                        <a:pt x="3112" y="424"/>
                        <a:pt x="3216" y="432"/>
                      </a:cubicBezTo>
                    </a:path>
                  </a:pathLst>
                </a:custGeom>
                <a:noFill/>
                <a:ln w="5724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" name="Picture 26" descr="NA01240_"/>
                <p:cNvPicPr/>
                <p:nvPr/>
              </p:nvPicPr>
              <p:blipFill>
                <a:blip r:embed="rId1"/>
                <a:stretch/>
              </p:blipFill>
              <p:spPr>
                <a:xfrm flipH="1">
                  <a:off x="1379520" y="3346200"/>
                  <a:ext cx="669600" cy="1290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27" descr="NA01260_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83440" y="3627720"/>
                  <a:ext cx="595080" cy="119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28" descr="NA01240_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2187000" y="3815640"/>
                  <a:ext cx="669240" cy="12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29" descr="NA00134_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4754520"/>
                  <a:ext cx="2631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Picture 30" descr="NA00134_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57560" y="4848480"/>
                  <a:ext cx="26280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31" descr="NA01260_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56720" y="4191120"/>
                  <a:ext cx="595080" cy="119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32" descr="NA00134_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726440" y="4848480"/>
                  <a:ext cx="2631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" name="Group 19"/>
              <p:cNvGrpSpPr/>
              <p:nvPr/>
            </p:nvGrpSpPr>
            <p:grpSpPr>
              <a:xfrm>
                <a:off x="1053000" y="2595240"/>
                <a:ext cx="4873680" cy="3074760"/>
                <a:chOff x="1053000" y="2595240"/>
                <a:chExt cx="4873680" cy="3074760"/>
              </a:xfrm>
            </p:grpSpPr>
            <p:grpSp>
              <p:nvGrpSpPr>
                <p:cNvPr id="56" name="Group 11"/>
                <p:cNvGrpSpPr/>
                <p:nvPr/>
              </p:nvGrpSpPr>
              <p:grpSpPr>
                <a:xfrm>
                  <a:off x="2360520" y="2595240"/>
                  <a:ext cx="1554480" cy="938520"/>
                  <a:chOff x="2360520" y="2595240"/>
                  <a:chExt cx="1554480" cy="938520"/>
                </a:xfrm>
              </p:grpSpPr>
              <p:sp>
                <p:nvSpPr>
                  <p:cNvPr id="57" name="AutoShape 12"/>
                  <p:cNvSpPr/>
                  <p:nvPr/>
                </p:nvSpPr>
                <p:spPr>
                  <a:xfrm>
                    <a:off x="2360520" y="2595240"/>
                    <a:ext cx="230400" cy="938520"/>
                  </a:xfrm>
                  <a:prstGeom prst="downArrow">
                    <a:avLst>
                      <a:gd name="adj1" fmla="val 50000"/>
                      <a:gd name="adj2" fmla="val 101836"/>
                    </a:avLst>
                  </a:prstGeom>
                  <a:solidFill>
                    <a:srgbClr val="4f81b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Text Box 13"/>
                  <p:cNvSpPr/>
                  <p:nvPr/>
                </p:nvSpPr>
                <p:spPr>
                  <a:xfrm>
                    <a:off x="2658240" y="2689200"/>
                    <a:ext cx="1256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positi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" name="AutoShape 14"/>
                <p:cNvSpPr/>
                <p:nvPr/>
              </p:nvSpPr>
              <p:spPr>
                <a:xfrm rot="17365200">
                  <a:off x="2980440" y="4278240"/>
                  <a:ext cx="375480" cy="577080"/>
                </a:xfrm>
                <a:prstGeom prst="downArrow">
                  <a:avLst>
                    <a:gd name="adj1" fmla="val 50000"/>
                    <a:gd name="adj2" fmla="val 38423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Text Box 15"/>
                <p:cNvSpPr/>
                <p:nvPr/>
              </p:nvSpPr>
              <p:spPr>
                <a:xfrm>
                  <a:off x="2702160" y="3825360"/>
                  <a:ext cx="115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Text Box 16"/>
                <p:cNvSpPr/>
                <p:nvPr/>
              </p:nvSpPr>
              <p:spPr>
                <a:xfrm>
                  <a:off x="1053000" y="5013360"/>
                  <a:ext cx="223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Watershed reten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Text Box 33"/>
                <p:cNvSpPr/>
                <p:nvPr/>
              </p:nvSpPr>
              <p:spPr>
                <a:xfrm>
                  <a:off x="4332600" y="5301720"/>
                  <a:ext cx="1410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ethylation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AutoShape 35"/>
                <p:cNvSpPr/>
                <p:nvPr/>
              </p:nvSpPr>
              <p:spPr>
                <a:xfrm rot="17365200">
                  <a:off x="5403960" y="5029560"/>
                  <a:ext cx="375480" cy="577080"/>
                </a:xfrm>
                <a:prstGeom prst="downArrow">
                  <a:avLst>
                    <a:gd name="adj1" fmla="val 50000"/>
                    <a:gd name="adj2" fmla="val 38423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Group 9"/>
            <p:cNvGrpSpPr/>
            <p:nvPr/>
          </p:nvGrpSpPr>
          <p:grpSpPr>
            <a:xfrm>
              <a:off x="420840" y="1190160"/>
              <a:ext cx="1659240" cy="2718360"/>
              <a:chOff x="420840" y="1190160"/>
              <a:chExt cx="1659240" cy="2718360"/>
            </a:xfrm>
          </p:grpSpPr>
          <p:pic>
            <p:nvPicPr>
              <p:cNvPr id="65" name="Picture 179" descr="DSCN2394"/>
              <p:cNvPicPr/>
              <p:nvPr/>
            </p:nvPicPr>
            <p:blipFill>
              <a:blip r:embed="rId8"/>
              <a:stretch/>
            </p:blipFill>
            <p:spPr>
              <a:xfrm>
                <a:off x="420840" y="1190160"/>
                <a:ext cx="1659240" cy="271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Box 17"/>
              <p:cNvSpPr/>
              <p:nvPr/>
            </p:nvSpPr>
            <p:spPr>
              <a:xfrm>
                <a:off x="581040" y="1592640"/>
                <a:ext cx="1227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DN si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D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0"/>
            <p:cNvGrpSpPr/>
            <p:nvPr/>
          </p:nvGrpSpPr>
          <p:grpSpPr>
            <a:xfrm>
              <a:off x="3937680" y="2106360"/>
              <a:ext cx="2039760" cy="2072880"/>
              <a:chOff x="3937680" y="2106360"/>
              <a:chExt cx="2039760" cy="2072880"/>
            </a:xfrm>
          </p:grpSpPr>
          <p:pic>
            <p:nvPicPr>
              <p:cNvPr id="68" name="Picture 651" descr="DSCN4169 small"/>
              <p:cNvPicPr/>
              <p:nvPr/>
            </p:nvPicPr>
            <p:blipFill>
              <a:blip r:embed="rId9"/>
              <a:stretch/>
            </p:blipFill>
            <p:spPr>
              <a:xfrm>
                <a:off x="3937680" y="2106360"/>
                <a:ext cx="2039760" cy="20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Box 15"/>
              <p:cNvSpPr/>
              <p:nvPr/>
            </p:nvSpPr>
            <p:spPr>
              <a:xfrm>
                <a:off x="4112640" y="2203560"/>
                <a:ext cx="1244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trea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onito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Box 13"/>
            <p:cNvSpPr/>
            <p:nvPr/>
          </p:nvSpPr>
          <p:spPr>
            <a:xfrm>
              <a:off x="6944040" y="1320120"/>
              <a:ext cx="1068120" cy="8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ndon Shores w/ FG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35"/>
          <p:cNvSpPr/>
          <p:nvPr/>
        </p:nvSpPr>
        <p:spPr>
          <a:xfrm rot="16200000">
            <a:off x="7466760" y="4768920"/>
            <a:ext cx="376200" cy="1393920"/>
          </a:xfrm>
          <a:prstGeom prst="downArrow">
            <a:avLst>
              <a:gd name="adj1" fmla="val 50000"/>
              <a:gd name="adj2" fmla="val 6238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6454800" y="440064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 and Me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x from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142920" y="115920"/>
            <a:ext cx="3719520" cy="2038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Differences in chemistry among watersh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427640" y="85680"/>
            <a:ext cx="4716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1"/>
          <p:cNvSpPr/>
          <p:nvPr/>
        </p:nvSpPr>
        <p:spPr>
          <a:xfrm>
            <a:off x="431640" y="81000"/>
            <a:ext cx="8229600" cy="684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Calibri"/>
              </a:rPr>
              <a:t>Filterable Hg and MeHg flux normalized to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4088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le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Particulate Hg and MeHg y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42920" y="1376280"/>
            <a:ext cx="244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ields are different among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rticulate yields are driven by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ighly erodible W109 has highest particle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2673360" y="1557360"/>
            <a:ext cx="64706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3280" y="9442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g and MeHg fluxes from coastal plain watersheds did not change appreciably over the study period, consistent with no change in Hg wet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timing of any response in stream flux to changes in Hg deposition remains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mplementation of federal Hg and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emissions standards may finally drive down Hg deposition in Maryland in the next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and use and BMPs have strong effects on Hg and MeHg 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orested watersheds transport more Hg and MeHg - perhaps due to higher dry deposition, perhaps due to DOC-enhance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rodible landscapes transport much higher masses of both Hg and Me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et bottom lands in the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astal plain can enhance MeHg production, and the amount is impacted by 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atios, and seasonal rai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astal plain bottom lands support MeHg production in shallow anaerobic ground waters, helped along by sulfate in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39640" y="15840"/>
            <a:ext cx="8229600" cy="792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le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mplications fo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rosion control practices should reduce Hg and MeHg fluxes to the Chesapeake and other receiving water bod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lfate emissions controls should continue to reduce MeHg production in watersheds outside the coastal zone (where soils derived from marine sediments have naturally high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MPs and restoration practices for 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emoval should be examined and designed for minimal impact on MeHg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creasing rainfall intensity could exacerbate particulate Hg and MeHg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hy contin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original goal of testing the impact of reduced emissions on Hg and MeHg in streams is still valid – and may be testable in the next several years as nationwide emissions dr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generative Storm Water Conveyance (RSC) installation in Muddy Creek (W101) in late 2015 will test how this restoration practice impacts MeHg produ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lanned parallel testing in high impervious surfaces watersheds in the South River bas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etter evaluate the role of changing rainfall patterns, temperature and climate on Hg and MeHg in coastal plain watersh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ERC SIT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continuously monitored Hg and MeHg fate and transport from the three first order Maryland coastal plain watersheds since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easure flow-weighted fluxes of total and MeHg, both in filterable and particulate phases, weekly, along with a suite of other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tersheds studied include three land-use types – forest, agriculture and mixed develop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water processes are studied using sets well transects in W110 and W109, and with periodic stream trans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t deposition is measured locally at Mercury Deposition Network Site MD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al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watershed Hg and MeHg yields in the mid-Atlantic Coastal 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MeHg production and its hydrologic and biogeochemical controls in shallow ground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ment of a baseline against which to assess any change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Hg emissions regulations in Maryland, the region, and the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additional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restorations/B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in flow regime and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cknowledgement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ryland DNR PPRP 2007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struction award for Muddy Creek Regenerative Stormwater Conveyance 2014-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mithsonian Estuarine Research Center 1971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SF ARRA Infrastructure award for SERC Ecosystems 2011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ional Science Foundation grant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Calibri"/>
              </a:rPr>
              <a:t>DEB0351050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H and CG 2005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BT award for monitoring SERC RSC 2015-2018 to Jordan and Gilm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-12600" y="836640"/>
            <a:ext cx="9144000" cy="391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735200"/>
          </a:xfrm>
          <a:prstGeom prst="rect">
            <a:avLst/>
          </a:prstGeom>
          <a:ln w="0">
            <a:noFill/>
          </a:ln>
        </p:spPr>
      </p:pic>
      <p:sp>
        <p:nvSpPr>
          <p:cNvPr id="81" name="Title 1"/>
          <p:cNvSpPr/>
          <p:nvPr/>
        </p:nvSpPr>
        <p:spPr>
          <a:xfrm>
            <a:off x="431640" y="0"/>
            <a:ext cx="8229600" cy="706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Example Date – Hg, MeHg, Stream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864720" y="2457360"/>
            <a:ext cx="7688880" cy="3111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ekly flow-weighted samples (refrigerated IS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 based on water depth in a v-notch weir (stilling well + rating cur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depth triggers ISCO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range of analytes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utr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ons (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se cations (ICP-O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C and spectr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culate and filt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, alkalinity from g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032360" y="0"/>
            <a:ext cx="48956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50920" y="260280"/>
            <a:ext cx="29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ly precipitation at SERC and area weighted water flux from watersh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468360" y="152280"/>
            <a:ext cx="8229600" cy="706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Stream flow and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"/>
          <p:cNvGrpSpPr/>
          <p:nvPr/>
        </p:nvGrpSpPr>
        <p:grpSpPr>
          <a:xfrm>
            <a:off x="1258920" y="1052640"/>
            <a:ext cx="6985080" cy="5805360"/>
            <a:chOff x="1258920" y="1052640"/>
            <a:chExt cx="6985080" cy="580536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1258920" y="1052640"/>
              <a:ext cx="6985080" cy="27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" descr=""/>
            <p:cNvPicPr/>
            <p:nvPr/>
          </p:nvPicPr>
          <p:blipFill>
            <a:blip r:embed="rId2"/>
            <a:stretch/>
          </p:blipFill>
          <p:spPr>
            <a:xfrm>
              <a:off x="1636200" y="4038120"/>
              <a:ext cx="6607800" cy="281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47640" y="1197000"/>
            <a:ext cx="7848720" cy="454644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468360" y="152280"/>
            <a:ext cx="8229600" cy="706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Seasonality in MeHg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Filterable Hg and MeHg y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76280"/>
            <a:ext cx="29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Hg and Hg yields are different among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ut yields are not changing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lterable (bioavailable) Hg and MeHg flux is highest from the forested cat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336840" y="1197000"/>
            <a:ext cx="5805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36:42Z</dcterms:created>
  <dc:creator>Gilmour</dc:creator>
  <dc:description/>
  <dc:language>en-US</dc:language>
  <cp:lastModifiedBy>Cynthia Gilmour</cp:lastModifiedBy>
  <dcterms:modified xsi:type="dcterms:W3CDTF">2015-05-12T21:41:52Z</dcterms:modified>
  <cp:revision>26</cp:revision>
  <dc:subject/>
  <dc:title>Slide 1</dc:title>
</cp:coreProperties>
</file>