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8D5-66D3-4683-BB22-90F81961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2C0-D96C-481D-B101-022648E8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738-15E4-4DD7-A9E8-9C335EA3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F0B-1C66-4631-9576-B661D873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624-5002-4BCF-BCF3-DB052F89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CBC-7B77-4EE8-81FE-EFF7A6B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B2D-7C11-4C04-BF7B-5503FEA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E36-DABB-4B08-900C-93E928F3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1FF-3E44-417C-81E2-141DB06B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1C3-11FA-458C-92AB-C2A9507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1FF-1539-44BA-8508-8B6F0F6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9F4-9E1C-4EE3-AD4A-30BF78D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38F-240E-4246-9BB3-2C173D44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oughts on Mercury Monitoring Needs for the Chesapeake and its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1640" y="1197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ngo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g in creel-sized fish in CB, impoundments and 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uman risk assessment and consumption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ased on fish size and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one in MD by MDE/D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 raw data online/update data in EPA on-line fish tissue databa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asurement of Hg in YOY f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arliest indicator of success/change in response to emissions controls, management practices, changing climate or whateve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one by MD by DNR/UMC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 raw dat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 Shot 2015-05-12 at 5.24.38 PM.png"/>
          <p:cNvPicPr/>
          <p:nvPr/>
        </p:nvPicPr>
        <p:blipFill>
          <a:blip r:embed="rId1"/>
          <a:srcRect l="0" t="8596" r="0" b="8596"/>
          <a:stretch/>
        </p:blipFill>
        <p:spPr>
          <a:xfrm>
            <a:off x="647640" y="13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87960" y="225360"/>
            <a:ext cx="41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National Listing of Fish Advi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 Tissu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with fish tissue H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44880" y="627372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500 records; 1991- 2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457200" y="189000"/>
            <a:ext cx="8435880" cy="936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rcury Monitoring Needs for the Chesape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31640" y="1197000"/>
            <a:ext cx="846144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ngo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g wet deposition and air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ed on MDN website/QA by NAD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ill missing a good indicator for “dry”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ack of sites in VA/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infall, sulfate and nitrate deposition (NA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asonality of precipitation and deposition are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ed on MDN website/QA by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astal plain stream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@ SERC, weekly during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vides response of stream Hg/MeHg flux to changing deposition, landuse, rai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current with other water quality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 raw dat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rcury Monitoring Needs for the Chesape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1640" y="13046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eed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n ongoing measure program for riverine Hg and MeHg inputs to the B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toxics measurements to fall-line monitoring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rcury emissions data from power plants made available on line, near-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valuation of non-power plant emissions sources in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diment database for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pdated Hg and MeHg budgets for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freddy Hg.jpg"/>
          <p:cNvPicPr/>
          <p:nvPr/>
        </p:nvPicPr>
        <p:blipFill>
          <a:blip r:embed="rId1"/>
          <a:stretch/>
        </p:blipFill>
        <p:spPr>
          <a:xfrm>
            <a:off x="900000" y="6922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36:42Z</dcterms:created>
  <dc:creator>Gilmour</dc:creator>
  <dc:description/>
  <dc:language>en-US</dc:language>
  <cp:lastModifiedBy>Cynthia Gilmour</cp:lastModifiedBy>
  <dcterms:modified xsi:type="dcterms:W3CDTF">2015-05-12T21:53:32Z</dcterms:modified>
  <cp:revision>27</cp:revision>
  <dc:subject/>
  <dc:title>Slide 1</dc:title>
</cp:coreProperties>
</file>